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3CA2-B745-41E8-B69D-D7473185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92B2-6352-492E-A275-A234A299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943E-44E9-4EAA-B1DC-3FE2306A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4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4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4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23A4-103C-45BC-A610-DCA23D84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9848-A660-4D5D-8DF3-81F8B0A4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F4E6-E5E1-48D3-9C64-2D14D831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0B0F-F4BA-46B8-8AF7-A2B95E4C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F546-24C3-45A9-BD60-0BD4BD9A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013A-1A01-419E-8927-6B464701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65880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2353-06D0-4BF6-93C0-C43D1909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9819-FB88-46F5-A754-627EDC9A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DFDE-3C19-40EA-A0F2-1D9D1679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1CB5-9315-4D19-9E9D-1C90B161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18B4-C9E5-4783-9806-E4D8DCA2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47AA-094C-42CC-9BBF-1D2671AB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5CBD-AE54-400B-91D7-BE31537F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24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24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24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4584-BB20-411F-83B4-06F6C9E6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59A9-441E-429A-90DD-4F6646E7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3DC9-F846-40F0-9786-355A8A7D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BCB4-CC3B-4A75-8C15-07078F7F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65880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7E6E-A63E-45F6-8472-AF212C89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FF62-6529-4129-BCC7-F355DB52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CBC2-F327-4249-A96F-2966365E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5DE5-A04B-46EF-B8FC-7A1B9976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022400" indent="-3510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339920" indent="-316080">
              <a:spcBef>
                <a:spcPts val="7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1681200" indent="-33984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1681200" indent="-339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1681200" indent="-339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24120"/>
            <a:ext cx="990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1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19760" y="6324120"/>
            <a:ext cx="106668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8BF3-B71D-4556-9279-A7485540C63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851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FB13-3B2B-4841-B849-441901C5FA3D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34452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71400" algn="ctr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kfupm.edu.sa/gs" TargetMode="External"/><Relationship Id="rId2" Type="http://schemas.openxmlformats.org/officeDocument/2006/relationships/hyperlink" Target="mailto:d-cgs@kfupm.edu.sa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990720" y="1371600"/>
            <a:ext cx="5943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Times New Roman"/>
                <a:ea typeface="Arial"/>
              </a:rPr>
              <a:t>Deanship of Graduate Studi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53341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Dr. Salam A. Zum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Jan.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  <a:ea typeface="Arial"/>
              </a:rPr>
              <a:t>Why to Become a GA ?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alary 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uture career 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fessional development 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Qualification level 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vestment in your self 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ational responsibility 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ll of the above !!!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B28A-B632-42E1-BBBC-33CA872E26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  <a:ea typeface="Arial"/>
              </a:rPr>
              <a:t>Why to Become a GA ?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alary?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GA package and new scale for Saudi Profess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able for active faculty compared to the next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uture career ?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 at a prestigious university (KFUP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 to work on what you love, not what you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fessional development 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 and PhD deg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of knowledge in the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5113-F15B-4137-BE52-7710C3092E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  <a:ea typeface="Arial"/>
              </a:rPr>
              <a:t>Why to Become a GA ?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Qualification level 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industrial positions do not need the high qualification you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ill be equalized with much less qualified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waste of your t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vestment in yourself 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D scholarship costs a l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ment in your fu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ational responsibility 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ll talented students refuse, then your kids will not find qualified faculty to teach them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C984-7496-429F-8519-0CAA553B81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  <a:ea typeface="Arial"/>
              </a:rPr>
              <a:t>Available Degre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octor of Philosophy (Ph.D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ster of Science (M.S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ster of Engineering (M. Engg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ster of City &amp; Regional Planning (M.C.R.P.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ster of Medical Physics (M. Med. Phys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ster of Geophysics (M. Geoph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ster of Geology (M. Geol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ster of Business Administration (M.B.A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xecutive Master of Business Administration (E.M.B.A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ster of Accounting (M. Acct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3A13-2640-40E1-9139-1DFA6E1D5E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838080" y="1028880"/>
          <a:ext cx="7543800" cy="5219640"/>
        </p:xfrm>
        <a:graphic>
          <a:graphicData uri="http://schemas.openxmlformats.org/drawingml/2006/table">
            <a:tbl>
              <a:tblPr/>
              <a:tblGrid>
                <a:gridCol w="4649760"/>
                <a:gridCol w="2894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DISCIPL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DEGRE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ccoun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.Accoun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erospace Engine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.S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rchitectural Engine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.Sc., M. Eng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hemical Engine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h.D., M.S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hemi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h.D., M.S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ity &amp; Regional Plan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.C.R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ivil Engine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h.D., M.Sc., M.Eng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omputer Engine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h.D., M.S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omputer Science and Engine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h.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omputer Networ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.S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onstruction Engineering &amp;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.Sc., M.Eng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lectrical Engine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h.D., M.S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7781-112C-4D17-A0F4-1F8B3F338B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066680" y="1028880"/>
          <a:ext cx="6858000" cy="5219640"/>
        </p:xfrm>
        <a:graphic>
          <a:graphicData uri="http://schemas.openxmlformats.org/drawingml/2006/table">
            <a:tbl>
              <a:tblPr/>
              <a:tblGrid>
                <a:gridCol w="4227480"/>
                <a:gridCol w="2630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DISCIPL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33"/>
                          </a:solidFill>
                          <a:latin typeface="Times New Roman"/>
                          <a:ea typeface="Times New Roman"/>
                        </a:rPr>
                        <a:t>DEGRE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Ge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.Sc., M. Geo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Geophys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.Sc., M. Geop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nvironmental Sci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.S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Information and Computer Sci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.S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Business Adminis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.B.A., E.M.B.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athema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h.D., M.S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echanical Engine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h.D., M.S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etroleum Engine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h.D., M.S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elecommunication Eng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.S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hys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.S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edical Phys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M. Med. Phy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Systems Enginee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h.D., M.S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07D0-B875-442C-84F8-3E2849ABBD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dmission Requirements for MS Program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720" indent="-28872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.S. Degre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8720" indent="-28872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 GPA of 3.00 or higher on a scale of 4.0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8720" indent="-28872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ree letters of recommendation from the faculty who taught you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8720" indent="-28872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letion of TOEFL with a minimum score for MS admission of 68 (IBT). IELTS is also accepted with a minimum score of 5.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8720" indent="-28872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OEFL is waived if your GPA in ENGL 101, 102 and 214 &gt; 3.0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8720" indent="-28872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atisfactorily meeting any additional departmental or university admission requiremen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25E6-25E7-409A-AB58-761FEB4C63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  <a:ea typeface="Arial"/>
              </a:rPr>
              <a:t>Graduate Studies</a:t>
            </a:r>
            <a:r>
              <a:rPr b="0" lang="en-US" sz="4000" spc="-1" strike="noStrike">
                <a:solidFill>
                  <a:srgbClr val="006633"/>
                </a:solidFill>
                <a:latin typeface="Garamond"/>
                <a:ea typeface="Arial"/>
              </a:rPr>
              <a:t> Contac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or application material and further information, please use one of the following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63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t the website of the Deanship of Graduate Studies at </a:t>
            </a:r>
            <a:r>
              <a:rPr b="0" lang="en-US" sz="2400" spc="-1" strike="noStrike" u="sng">
                <a:solidFill>
                  <a:srgbClr val="996600"/>
                </a:solidFill>
                <a:uFillTx/>
                <a:latin typeface="Times New Roman"/>
                <a:hlinkClick r:id="rId1"/>
              </a:rPr>
              <a:t>www.kfupm.edu.sa/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e-mail to </a:t>
            </a:r>
            <a:r>
              <a:rPr b="0" lang="en-US" sz="2400" spc="-1" strike="noStrike" u="sng">
                <a:solidFill>
                  <a:srgbClr val="996600"/>
                </a:solidFill>
                <a:uFillTx/>
                <a:latin typeface="Times New Roman"/>
                <a:hlinkClick r:id="rId2"/>
              </a:rPr>
              <a:t>d-cgs@kfupm.edu.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t the Admission Office in Bldg. 59, Room 104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4190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: 28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2659-7F4F-4BE5-AAC6-D2289E90AC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99840" y="2819520"/>
            <a:ext cx="579132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33"/>
                </a:solidFill>
                <a:latin typeface="Garamond"/>
                <a:ea typeface="Arial"/>
              </a:rPr>
              <a:t>THANK YOU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A743-792D-4A43-9933-8745860346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  <a:ea typeface="Arial"/>
              </a:rPr>
              <a:t>Outlin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Graduate Studies Overview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eatures of MS Programs at KFUP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Why to become a GA ?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Available Program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Deadlin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3B59-8E46-4E7A-B0F0-B647E88D51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  <a:ea typeface="Arial"/>
              </a:rPr>
              <a:t>Graduate Studies Overview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609480" y="1828800"/>
            <a:ext cx="79250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FUPM ranked the 1st in Arab World and the 338th  over universities in the world (TimesQ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FUPM has 28 MS and 9 PhD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search is supported b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anship of Scientific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search Instit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our Centers of Research Excel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ACST funds for faculty and graduate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C61F-3166-4F71-9D9F-8B5E15083D5D}" type="slidenum"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4B4E-A919-44CE-A21F-49657CA7BBF2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fld id="{326971A9-C5DB-4037-9351-F227DA6DF084}" type="datetime12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6:58 PM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6B3-364F-4F3D-B63E-13ABB984A58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  <a:ea typeface="Arial"/>
              </a:rPr>
              <a:t>Graduate Studies Overview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 Deanship of Graduate Studies was established in 1972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t was the first Graduate College in Saudi Arabia and in Gulf Arabian Stat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 University was the first institution in Saudi Arabia to introduce Ph.D. programs in engineering in 198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BB7F-86EA-4749-ADD3-A421A79595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7752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  <a:ea typeface="Arial"/>
              </a:rPr>
              <a:t>Strategic Roadmap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Vision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855720" indent="-51120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nable KFUPM be a leader in the region in providing quality graduate programs in Science, Engineering and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Arial"/>
              </a:rPr>
              <a:t>Goal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 the research environment at KFUP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knowledge dissemin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 quality and efficiency of the graduate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quality and diversity in graduate student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the efficiency of the Deanship of Graduate Stud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604-795E-4576-9A91-500D80435E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ctive Graduate Studen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447920"/>
          <a:ext cx="8229600" cy="5111640"/>
        </p:xfrm>
        <a:graphic>
          <a:graphicData uri="http://schemas.openxmlformats.org/drawingml/2006/table">
            <a:tbl>
              <a:tblPr/>
              <a:tblGrid>
                <a:gridCol w="1697040"/>
                <a:gridCol w="1098720"/>
                <a:gridCol w="745920"/>
                <a:gridCol w="1162080"/>
                <a:gridCol w="858960"/>
                <a:gridCol w="1566720"/>
                <a:gridCol w="1100160"/>
              </a:tblGrid>
              <a:tr h="1049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LLE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GG SCI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C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DUSTRIAL MG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V DESIG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 SCIENCE &amp; ENG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ull-Time PhD Stu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rt-Time PhD Stu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ull-Time Master Stu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rt-Time Master Stu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Stud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AA83-FEA5-43BC-AF63-60AF70891590}" type="slidenum">
              <a:t>6</a:t>
            </a:fld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ctive Graduate Studen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8600" y="1676520"/>
          <a:ext cx="861048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6104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90B6-410A-4553-BC03-ADC20596173A}" type="slidenum">
              <a:t>7</a:t>
            </a:fld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588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Active Graduate Student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1523880"/>
          <a:ext cx="7696080" cy="451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69608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E459-2E54-4888-A37C-77F876F4AB3B}" type="slidenum">
              <a:t>8</a:t>
            </a:fld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Features of MS Programs at KFUPM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xcellent coursework and program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quivalent to excellent international universiti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S Thesis research usually results in quality publicatio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se publications helps you to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rove your chances of admission at top universiti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t trained well by KFUPM faculty – devote time to you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rt PhD research easily given your experience at KFUP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s is not available in students who go directly outsid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iverse student body from many countries around the world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ain experience and communication ski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FCF7-FB73-4A38-8FCD-6CDF81615A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J Pullin</dc:creator>
  <dc:description/>
  <dc:language>en-US</dc:language>
  <cp:lastModifiedBy>Salam Zummo</cp:lastModifiedBy>
  <dcterms:modified xsi:type="dcterms:W3CDTF">2009-01-24T20:59:57Z</dcterms:modified>
  <cp:revision>273</cp:revision>
  <dc:subject/>
  <dc:title>Chapter 1 Data Communications and Networks Overview</dc:title>
</cp:coreProperties>
</file>