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2B1-6A2A-461B-B1E5-C87B6B87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A9E4-8939-4375-8DE8-ACAE1805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E71-B6A9-4AB9-ABE2-408EB52B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A93-C933-4357-BC51-C78472B2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A9AD-AF84-4B30-BCFC-685AF6CB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4DC7-DE5B-4F77-BC48-6AC20AB9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1F79-067B-4618-8DA4-35BE1373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12D6-2763-4FC8-91ED-BC5E587D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F88B-A15C-4814-A896-19499273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65880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F17C-C575-40EF-8E47-F449FC4E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7996-0251-4F7F-BDB8-00F4ACA6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1F6-449A-4149-89A6-34E80D71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DC2F-1C56-4FB6-8D20-763AFA21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DD96-33A5-4D74-908F-7788592D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3A9A-AF3E-464F-89B6-7C1FF42E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3033-7299-488C-A93A-11109327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E1FE-E466-4F6B-93B4-C13C6570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E03-FBED-4DBB-AD52-EBEF6DED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CC8-014F-4DBF-B05A-BB867C49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95D4-C70C-48F9-90FA-83A6885F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5880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258C-31D4-456A-A76C-20368890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297-D38A-41AE-9D10-241F0D3C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8A4-C663-440E-92D4-C113370E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DA7-ABF8-4605-A674-207BA3AF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22400" indent="-3510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339920" indent="-316080">
              <a:spcBef>
                <a:spcPts val="7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1681200" indent="-33984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168120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168120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24120"/>
            <a:ext cx="990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1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9760" y="6324120"/>
            <a:ext cx="106668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7BF6-FC3C-4D51-BBC1-FF9510C508F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851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1CC7-5994-4955-BCE4-525659B82FB7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34452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71400" algn="ctr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kfupm.edu.sa/gs" TargetMode="External"/><Relationship Id="rId2" Type="http://schemas.openxmlformats.org/officeDocument/2006/relationships/hyperlink" Target="mailto:d-cgs@kfupm.edu.sa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990720" y="1371600"/>
            <a:ext cx="5943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Times New Roman"/>
                <a:ea typeface="Arial"/>
              </a:rPr>
              <a:t>Deanship of Graduate Stud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53341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Dr. Salam A. Zum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Jan.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Why to Become a GA ?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alary 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uture career 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fessional development 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Qualification level 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vestment in your self 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tional responsibility 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ll of the above !!!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7612-4D41-4619-A6F2-0E6F5F53E3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Why to Become a GA ?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alary?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GA package and new scale for Saudi Profes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able for active faculty compared to the next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uture career ?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 at a prestigious university (KFUP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to work on what you love, not what you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fessional development 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and PhD deg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of knowledge in the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E26-5318-41B2-B642-941BBCB5D9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Why to Become a GA ?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Qualification level 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industrial positions do not need the high qualification you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be equalized with much less qualified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waste of your t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vestment in yourself 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D scholarship costs a l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ment in your fu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ational responsibility 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talented students refuse, then your kids will not find qualified faculty to teach them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B7F-4627-4E60-A321-00B7779355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Available Degre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ctor of Philosophy (Ph.D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ster of Science (M.S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ster of Engineering (M. Engg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ster of City &amp; Regional Planning (M.C.R.P.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ster of Medical Physics (M. Med. Phys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ster of Geophysics (M. Geoph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ster of Geology (M. Geol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ster of Business Administration (M.B.A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ecutive Master of Business Administration (E.M.B.A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ster of Accounting (M. Acct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E8A3-B43E-4D08-9C82-91D3BAB93E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838080" y="1028880"/>
          <a:ext cx="7543800" cy="5219640"/>
        </p:xfrm>
        <a:graphic>
          <a:graphicData uri="http://schemas.openxmlformats.org/drawingml/2006/table">
            <a:tbl>
              <a:tblPr/>
              <a:tblGrid>
                <a:gridCol w="4649760"/>
                <a:gridCol w="2894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DISCIPL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DEGR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ccoun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Accoun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erospace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rchitectural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., M. Eng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hemical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, 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hemi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, 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ity &amp; Regional Plan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C.R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ivil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, M.Sc., M.Eng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omputer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, 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omputer Science and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omputer Networ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onstruction Engineering &amp;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., M.Eng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lectrical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, 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470-481A-47DE-89E9-AE6D102EAA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066680" y="1028880"/>
          <a:ext cx="6858000" cy="5219640"/>
        </p:xfrm>
        <a:graphic>
          <a:graphicData uri="http://schemas.openxmlformats.org/drawingml/2006/table">
            <a:tbl>
              <a:tblPr/>
              <a:tblGrid>
                <a:gridCol w="4227480"/>
                <a:gridCol w="2630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DISCIPL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DEGR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e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., M. Geo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eophys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., M. Geop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nvironmental Sc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nformation and Computer Sc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Business Adminis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B.A., E.M.B.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athema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, 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chanical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, 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etroleum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, 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elecommunication Eng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ys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dical Phys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 Med. Phy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ystems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, 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741E-1371-4EB9-B8D9-92F734AC73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dmission Requirements for MS Program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720" indent="-28872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.S. Degre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8720" indent="-28872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 GPA of 3.00 or higher on a scale of 4.0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8720" indent="-28872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ree letters of recommendation from the faculty who taught you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8720" indent="-28872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letion of TOEFL with a minimum score for MS admission of 68 (IBT). IELTS is also accepted with a minimum score of 5.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8720" indent="-28872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EFL is waived if your GPA in ENGL 101, 102 and 214 &gt; 3.0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8720" indent="-28872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atisfactorily meeting any additional departmental or university admission requiremen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2EF-EDEA-4825-B422-C23A60C009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Arial"/>
              </a:rPr>
              <a:t>Graduate Studies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 Contac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or application material and further information, please use one of the following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 the website of the Deanship of Graduate Studies at </a:t>
            </a:r>
            <a:r>
              <a:rPr b="0" lang="en-US" sz="2400" spc="-1" strike="noStrike" u="sng">
                <a:solidFill>
                  <a:srgbClr val="996600"/>
                </a:solidFill>
                <a:uFillTx/>
                <a:latin typeface="Times New Roman"/>
                <a:hlinkClick r:id="rId1"/>
              </a:rPr>
              <a:t>www.kfupm.edu.sa/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e-mail to </a:t>
            </a:r>
            <a:r>
              <a:rPr b="0" lang="en-US" sz="2400" spc="-1" strike="noStrike" u="sng">
                <a:solidFill>
                  <a:srgbClr val="996600"/>
                </a:solidFill>
                <a:uFillTx/>
                <a:latin typeface="Times New Roman"/>
                <a:hlinkClick r:id="rId2"/>
              </a:rPr>
              <a:t>d-cgs@kfupm.edu.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 the Admission Office in Bldg. 59, Room 104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: 28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1DF0-FA82-4E67-9179-BC78F8F0F2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2819520"/>
            <a:ext cx="57913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  <a:ea typeface="Arial"/>
              </a:rPr>
              <a:t>THANK YOU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300-DAE4-4FEA-94B8-768967284B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Out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Graduate Studies Overview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eatures of MS Programs at KFUP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Why to become a GA ?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Available Progra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Deadlin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A950-09C0-4C27-8053-7685B2DBAC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Graduate Studies Overview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609480" y="1828800"/>
            <a:ext cx="79250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FUPM ranked the 1st in Arab World and the 338th  over universities in the world (TimesQ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FUPM has 28 MS and 9 Ph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search is supported b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anship of Scientific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search Instit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our Centers of Research Excel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ACST funds for faculty and graduate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6F70-BDB0-4AB1-9DBF-90C841B18C28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4E93-0F6B-4856-92D8-B52A79E76EF8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fld id="{E64D16CD-0A95-46A6-85AA-361D7504B4AC}" type="datetime12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:19 P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21E-DF89-4E3B-885C-60D9EB18766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Arial"/>
              </a:rPr>
              <a:t>Graduate Studies Overview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Deanship of Graduate Studies was established in 1972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t was the first Graduate College in Saudi Arabia and in Gulf Arabian Stat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University was the first institution in Saudi Arabia to introduce Ph.D. programs in engineering in 198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F5D-0121-42F7-BA35-324F3B447C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Strategic Roadmap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Vis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855720" indent="-5112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able KFUPM be a leader in the region in providing quality graduate programs in Science, Engineering and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Goal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 the research environment at KFUP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knowledge disse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quality and efficiency of the graduate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quality and diversity in graduate student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he efficiency of the Deanship of Graduate Stud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49E-A016-49C2-9097-26C1253C82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ctive Graduate Studen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447920"/>
          <a:ext cx="8229600" cy="5111640"/>
        </p:xfrm>
        <a:graphic>
          <a:graphicData uri="http://schemas.openxmlformats.org/drawingml/2006/table">
            <a:tbl>
              <a:tblPr/>
              <a:tblGrid>
                <a:gridCol w="1697040"/>
                <a:gridCol w="1098720"/>
                <a:gridCol w="745920"/>
                <a:gridCol w="1162080"/>
                <a:gridCol w="858960"/>
                <a:gridCol w="1566720"/>
                <a:gridCol w="1100160"/>
              </a:tblGrid>
              <a:tr h="1049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LLE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GG 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C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DUSTRIAL MG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V DE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 SCIENCE &amp; ENG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ull-Time PhD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t-Time PhD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ull-Time Master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t-Time Master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206-7525-4354-A8A2-575C138D746A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ctive Graduate Studen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1676520"/>
          <a:ext cx="861048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6104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ED27-7C03-462E-843A-FE1E11C5C6E3}" type="slidenum">
              <a:t>7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ctive Graduate Studen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523880"/>
          <a:ext cx="7696080" cy="45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696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CAE2-28DF-431C-A918-22D596350828}" type="slidenum">
              <a:t>8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eatures of MS Programs at KFUPM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cellent coursework and program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ivalent to excellent international universiti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S Thesis research usually results in quality publica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se publications helps you to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rove your chances of admission at top universiti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t trained well by KFUPM faculty – devote time to you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 PhD research easily given your experience at KFUP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is not available in students who go directly outsid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iverse student body from many countries around the worl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ain experience and communication ski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C594-598C-4BED-A1E4-10819286F3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J Pullin</dc:creator>
  <dc:description/>
  <dc:language>en-US</dc:language>
  <cp:lastModifiedBy>Salam Zummo</cp:lastModifiedBy>
  <dcterms:modified xsi:type="dcterms:W3CDTF">2009-01-24T20:59:57Z</dcterms:modified>
  <cp:revision>273</cp:revision>
  <dc:subject/>
  <dc:title>Chapter 1 Data Communications and Networks Overview</dc:title>
</cp:coreProperties>
</file>