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01822-8A58-437E-9791-057C4AE449CC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96329-B81B-4652-BC73-B918770CFAED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927032-FA47-46B2-973D-3DCB4C4C189E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2C930-B5B2-46F6-8A21-3554711CB2E0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A30129-DB2F-4183-95CB-8E4729832A1B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809CD-DC61-4041-BCD0-9FD285CEC7D0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F14D75-39CF-44FD-BAF2-07AB4556C342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A25BD-9F55-4DD2-98D5-CEDEA603620B}" type="slidenum">
              <a:rPr b="0" lang="ar-SA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ED4553-15C4-40ED-BFA4-A6ACD1E166AC}" type="slidenum">
              <a:rPr b="0" lang="ar-SA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216-086F-4DE5-8259-AF3268EA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DBD-32E6-46A1-99A2-EACA4E73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D43-7BFE-49C7-9007-D7D37E3B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D1F-3987-46C7-801D-182DEF38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2E81-E62F-45C0-A0D2-5C6843A1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74C9-6DAE-448E-813A-0527C571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B64A-412B-4EE4-819A-FF16117A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7038-6888-48ED-BE2E-6BE3820F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9CA4-F3C7-4BA4-8901-19889DC7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65880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5D7D-B4AA-4F3C-B75C-59DE7804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4FD5-B289-4138-AED1-031FBDDE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39D-322B-48A7-9015-FBA0B208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AA87-65F6-495E-81CB-3679FF63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EB19-E9FA-42D2-9B37-322E8A7F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5A59-3591-4FC2-A1A0-6B5E64CC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1161-5990-4B10-9AB7-005A7B63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6471-ED38-43BC-AEA0-9B967941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579-0F62-4696-AF45-C7FE45F2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779-6F36-467D-9283-F9CE433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F70-1677-48A1-8C50-9EED1373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5880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3B2-FC88-4703-88AA-24F3F808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83F-04FF-40D2-AAE6-851EE91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240-69F1-4A45-8A08-C765FF3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E01-92BA-44DE-BDF3-95AF023C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22400" indent="-351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39920" indent="-316080">
              <a:spcBef>
                <a:spcPts val="7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168120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24120"/>
            <a:ext cx="990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324120"/>
            <a:ext cx="106668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3986-9F48-4655-8DE8-7A97E72EDEA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51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2A35-3904-4F7E-A38F-2A0CC083DAA1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1400" algn="ctr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990720" y="1371600"/>
            <a:ext cx="5943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Strategic Roadmap and Latest Initiatives of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Deanship of Graduate Stu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eanship of Graduate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April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80880" y="228600"/>
          <a:ext cx="8229600" cy="6597720"/>
        </p:xfrm>
        <a:graphic>
          <a:graphicData uri="http://schemas.openxmlformats.org/drawingml/2006/table">
            <a:tbl>
              <a:tblPr/>
              <a:tblGrid>
                <a:gridCol w="428760"/>
                <a:gridCol w="1514520"/>
                <a:gridCol w="1285920"/>
                <a:gridCol w="1285920"/>
                <a:gridCol w="1285560"/>
                <a:gridCol w="1143000"/>
                <a:gridCol w="1285920"/>
              </a:tblGrid>
              <a:tr h="2764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KP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 the research environment at KFU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knowledge dissemin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quality and efficiency of the graduate progr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diversity in graduate student bod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efficiency of the Deanship of Graduate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uate to undergraduate student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uate student to faculty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ctive PhD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time for program 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entio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thesis-based degrees granted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non-thesis degrees granted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processing time for admission ap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processing time for academic peti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udi to non-Saudi student rat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EDE-0A03-4820-A283-2D3BFA91E3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Other Performance Indicator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Lecturers-B and RAs who reported to KFUP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admitted stud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lled-to-admitted graduate students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-to-enrolled graduate students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opouts-to-active graduate students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missed-to-active graduate student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students on scholarship from internal and external agenc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 rate: Ratio of completed credit hours with a grade of B and above to total completed credit hou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ntage of enrolled students to those given ad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centages of full &amp; part-time stud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1AC-CF4C-457D-A2E1-A1D9F86C4B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mprove incentives for graduate stude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he salary package of RA’s and Lecturer-B’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Proposal is under study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he salary package of Saudi Graduate Assistants (GA’s)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Approved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graduate scholarship programs that are funded by either KFUPM or companie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ARAMCO in ES and PETE, working for others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DCA-33C6-47F7-B7D1-51881EBD7D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troduce research-focused PhD program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 research-based courses in PhD Program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proposal in University Board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 PhD programs with less course work requirement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Extension of above – not yet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more flexible and comprehensive PhD program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To be discussed in Graduate Council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1FF-A7F6-452C-A8A3-3E45A4D402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educe Visa delay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 Student Visa for international graduate students (through scholarship programs)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Under study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up Visa processing time from the Personnel Department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Synchronization of processes was established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KFUPM Visa limit that was set long time ago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Request was submitted for CoRE’s and RI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B14-C906-4D78-832D-0A298E5D5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mprove environment for graduate stude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on-campus housing for PhD married students 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3b812f"/>
                </a:solidFill>
                <a:latin typeface="Times New Roman"/>
              </a:rPr>
              <a:t>Done in 081</a:t>
            </a:r>
            <a:r>
              <a:rPr b="0" lang="en-US" sz="2400" spc="-1" strike="noStrike">
                <a:solidFill>
                  <a:srgbClr val="3b812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ablish the following initia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 the role of the CAAC to handle the problems of graduate stud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a Graduate Student’s Club.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International Student Office (to serve their nee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e a Welcome Day/week for Graduate Students.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, 1</a:t>
            </a:r>
            <a:r>
              <a:rPr b="0" i="1" lang="en-US" sz="2000" spc="-1" strike="noStrike" baseline="30000">
                <a:solidFill>
                  <a:srgbClr val="3b812f"/>
                </a:solidFill>
                <a:latin typeface="Times New Roman"/>
              </a:rPr>
              <a:t>st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 Day was in 081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e workshops for development of graduate students with the cooperation of DAD (e.g., in research, teaching, CV writing, proposal writing, et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6B81-AB8E-4923-B492-D9C26AC4C9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crease internal efficiency of the DG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admission/advising proce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 DGS processes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Done for Admission – project started for other functions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/Enhance the role of the Graduate Coordinators in departments.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In progress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the file processing time at the departments and DGS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3 weeks at Dept.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blish a Thesis Office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e an Academic Calendar 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18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ise tuition fees for part-time graduate stud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In progress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061-153D-4A43-ABFB-CA0EDBCE58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stablish an outreach program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visit pro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 regional/international universities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 – Egypt, India, Pakistan, Turkey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e MS scholarships from Gulf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 to Saudi honor students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 in 081 and 082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hance marketing mate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easily accessible Website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brochures, handouts and presentations for marketing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 in advertising websites for graduate stud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2640" indent="-3812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 standard presentations for visits and website 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b812f"/>
                </a:solidFill>
                <a:latin typeface="Times New Roman"/>
              </a:rPr>
              <a:t>Done</a:t>
            </a:r>
            <a:r>
              <a:rPr b="0" lang="en-US" sz="2000" spc="-1" strike="noStrike">
                <a:solidFill>
                  <a:srgbClr val="3b812f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A8C-E56E-4FCF-A29A-5DE7DBD6D2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33"/>
                </a:solidFill>
                <a:latin typeface="Garamond"/>
                <a:ea typeface="Arial"/>
              </a:rPr>
              <a:t>Suggested Strategi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ntroduce research-based courses in MS-Engg. program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Establish English programs for graduate students 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b812f"/>
                </a:solidFill>
                <a:latin typeface="Times New Roman"/>
              </a:rPr>
              <a:t>In progress in coordination with CASS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)</a:t>
            </a:r>
            <a:r>
              <a:rPr b="0" i="1" lang="en-US" sz="2200" spc="-1" strike="noStrike">
                <a:solidFill>
                  <a:srgbClr val="3b812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Revise graduate studies unified regulation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b812f"/>
                </a:solidFill>
                <a:latin typeface="Times New Roman"/>
              </a:rPr>
              <a:t>In progress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ntroduce different PhD and MS track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Establish new internationally recognized program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alist Degrees (below M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fessional Degrees (below Ph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Establish international joint thesis supervision programs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b812f"/>
                </a:solidFill>
                <a:latin typeface="Times New Roman"/>
              </a:rPr>
              <a:t>In progress</a:t>
            </a:r>
            <a:r>
              <a:rPr b="0" lang="en-US" sz="2200" spc="-1" strike="noStrike">
                <a:solidFill>
                  <a:srgbClr val="3b812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Provide graduate programs outside KFUPM campu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9280-C3BD-4454-9894-AF05B83EEE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Mapping Goals/Strategies Matrix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038240"/>
          <a:ext cx="8229600" cy="5667480"/>
        </p:xfrm>
        <a:graphic>
          <a:graphicData uri="http://schemas.openxmlformats.org/drawingml/2006/table">
            <a:tbl>
              <a:tblPr/>
              <a:tblGrid>
                <a:gridCol w="285840"/>
                <a:gridCol w="1657440"/>
                <a:gridCol w="1285560"/>
                <a:gridCol w="1285920"/>
                <a:gridCol w="1285920"/>
                <a:gridCol w="1143000"/>
                <a:gridCol w="1285920"/>
              </a:tblGrid>
              <a:tr h="2764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trate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 the research environment at KFU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knowledge dissemination in the soci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quality and efficiency of the graduate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diversity in graduate student b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efficiency of the processes of the Deanship of Graduate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incentives for graduate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e research-focused PhD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e Visa del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e required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environment for graduate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internal process efficiency of the Deanship of Graduate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an outreach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e research-based courses in MS-Engg.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757-F12C-469A-91D6-80C98A877B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Out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Graduate Statisti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Strategic Roadm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valuation of Admission Application Fil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nline Application System (BANN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gress of PhD Stud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ole of a Graduate Coordinat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wareness on the Rules &amp; Regulations of Graduate Stud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534-AAD8-4217-B4AF-E8AF7DB1FB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700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Goals/Strategies Matrix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143000"/>
          <a:ext cx="8229600" cy="5118120"/>
        </p:xfrm>
        <a:graphic>
          <a:graphicData uri="http://schemas.openxmlformats.org/drawingml/2006/table">
            <a:tbl>
              <a:tblPr/>
              <a:tblGrid>
                <a:gridCol w="285840"/>
                <a:gridCol w="1657440"/>
                <a:gridCol w="1285560"/>
                <a:gridCol w="1285920"/>
                <a:gridCol w="1285920"/>
                <a:gridCol w="1143000"/>
                <a:gridCol w="1285920"/>
              </a:tblGrid>
              <a:tr h="2764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trate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II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I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 V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hance the research environment at KFU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knowledge dissemination in the soci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quality and efficiency of the graduate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diversity in graduate student b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efficiency of the processes of the Deanship of Graduate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English programs for graduate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ise graduate studies unified regu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e different PhD tracks for MS and BS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new internationally recognized progra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lish joint thesis supervision progr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de graduate programs outside KFUPM cam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5BA-20EF-478D-A08C-7E09881A53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Old 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rganizational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 Structur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19480" y="2325240"/>
            <a:ext cx="6212880" cy="3526560"/>
            <a:chOff x="1419480" y="2325240"/>
            <a:chExt cx="6212880" cy="3526560"/>
          </a:xfrm>
        </p:grpSpPr>
        <p:sp>
          <p:nvSpPr>
            <p:cNvPr id="141" name=""/>
            <p:cNvSpPr/>
            <p:nvPr/>
          </p:nvSpPr>
          <p:spPr>
            <a:xfrm>
              <a:off x="3602520" y="2325240"/>
              <a:ext cx="2014920" cy="67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duat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19480" y="2325240"/>
              <a:ext cx="1511280" cy="67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Graduate Counc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5080" y="3668760"/>
              <a:ext cx="1007280" cy="67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ean’s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02520" y="3668760"/>
              <a:ext cx="2014920" cy="67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ssistant Dean Graduat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27120" y="5180040"/>
              <a:ext cx="1343160" cy="67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dmission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5180040"/>
              <a:ext cx="1679040" cy="67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cademic Affairs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10160" y="2997000"/>
              <a:ext cx="720" cy="6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10160" y="4340520"/>
              <a:ext cx="720" cy="5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8880" y="4844520"/>
              <a:ext cx="2350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49680" y="4844520"/>
              <a:ext cx="72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98880" y="4844520"/>
              <a:ext cx="72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7440" y="26611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9080" y="2661120"/>
              <a:ext cx="72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17440" y="4004640"/>
              <a:ext cx="100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930400" y="2661120"/>
              <a:ext cx="671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72F1-01F9-4693-BC94-918F2117EE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2560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New Organizational Structure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07960" y="2141640"/>
            <a:ext cx="8255160" cy="3555720"/>
            <a:chOff x="507960" y="2141640"/>
            <a:chExt cx="8255160" cy="3555720"/>
          </a:xfrm>
        </p:grpSpPr>
        <p:sp>
          <p:nvSpPr>
            <p:cNvPr id="158" name=""/>
            <p:cNvSpPr/>
            <p:nvPr/>
          </p:nvSpPr>
          <p:spPr>
            <a:xfrm>
              <a:off x="3556080" y="2141640"/>
              <a:ext cx="203184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uat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3960" y="2141640"/>
              <a:ext cx="152424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raduate Counc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03840" y="3495600"/>
              <a:ext cx="1016280" cy="67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an’s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56080" y="3495600"/>
              <a:ext cx="2031840" cy="67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sistant Dean Graduate 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0240" y="5021280"/>
              <a:ext cx="1355760" cy="67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mission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64040" y="5021280"/>
              <a:ext cx="1693800" cy="676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ademic Affairs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5021280"/>
              <a:ext cx="1354320" cy="676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diting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7960" y="5021280"/>
              <a:ext cx="1354320" cy="676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ption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0120" y="5021280"/>
              <a:ext cx="1143000" cy="676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utreach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0" y="2817720"/>
              <a:ext cx="1440" cy="67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4173480"/>
              <a:ext cx="144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5840" y="4681440"/>
              <a:ext cx="694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28080" y="468144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3760" y="468144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0040" y="4681440"/>
              <a:ext cx="180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8120" y="4681440"/>
              <a:ext cx="14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5840" y="4681440"/>
              <a:ext cx="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87920" y="24796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12160" y="2479680"/>
              <a:ext cx="144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7920" y="3835440"/>
              <a:ext cx="101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877840" y="2479680"/>
              <a:ext cx="677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BDA-CD5C-4E00-9DDA-D9C99EA06A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Evaluation of Admission Application Fil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D65-19C9-43BB-9FC0-2E8AD0E9C6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6"/>
          <p:cNvSpPr/>
          <p:nvPr/>
        </p:nvSpPr>
        <p:spPr>
          <a:xfrm>
            <a:off x="609480" y="2209680"/>
            <a:ext cx="762012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files in batches (by hand) has proven to be effic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los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batches are sent every semester, one every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s kindly need to send back all these batches within the deadline (3 weeks) to facilitate timely admission d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1143000" y="1203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Sending and Receiving 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DB8-9920-40CA-BFC3-243E245757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"/>
          <p:cNvSpPr/>
          <p:nvPr/>
        </p:nvSpPr>
        <p:spPr>
          <a:xfrm>
            <a:off x="609480" y="2197080"/>
            <a:ext cx="76201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TOEFL score required is (68 IBT) for Master and (79 IBT) for Doctoral Applic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LTS is also acceptable. Min Score 5.5 – Master , 6.5 Docto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 if GRE/GMAT or TOEFL scores are not present, Departments kindly need to evaluate the files by clearly mentioning the required scores for admis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066680" y="1203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Test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2FA-13CE-4465-80E0-3DD224C6FF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609480" y="2508120"/>
            <a:ext cx="76201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trongly recommend that admission applications be discussed in a committee meeting rather than circulating among the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o make the evaluation and recommendation more meaning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1066680" y="13557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Evaluation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79E-D2F4-4E47-93DE-467E941612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609480" y="2133720"/>
            <a:ext cx="7925040" cy="38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Degree admission is NO longer acce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atisfying one of the following cond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&lt; 2.5 (at least 2-year experi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ith English De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is many deficiency cour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year to finish the Pre-Gra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 3 grad courses, 2 of which are core with &gt; B in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ed periodically to dismiss low-performing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 courses taken are counted towards the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1066680" y="12952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Pre-Graduate Ad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B85-5DF6-426E-BB13-A069991BDD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Online Application System (BANNER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DDB-3D55-414C-BB86-F9A6546666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609480" y="2409840"/>
            <a:ext cx="76201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duate Studies has started using Banner for admis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ith other ERP systems, Banner brings multiple departments under one r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tatistical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will be stored for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is sca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1066680" y="1339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A5A-D58E-4D36-87ED-487071F0C3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519120" y="2158920"/>
            <a:ext cx="4127400" cy="393840"/>
          </a:xfrm>
          <a:prstGeom prst="rect">
            <a:avLst/>
          </a:prstGeom>
          <a:solidFill>
            <a:srgbClr val="7c6b4d">
              <a:alpha val="40000"/>
            </a:srgbClr>
          </a:solidFill>
          <a:ln w="1260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PhD Enroll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4960" y="2530440"/>
            <a:ext cx="4113360" cy="3008520"/>
          </a:xfrm>
          <a:prstGeom prst="rect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685800" y="2604960"/>
            <a:ext cx="3962520" cy="2828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862520" y="2133720"/>
            <a:ext cx="3976560" cy="393480"/>
          </a:xfrm>
          <a:prstGeom prst="rect">
            <a:avLst/>
          </a:prstGeom>
          <a:solidFill>
            <a:srgbClr val="cc9900">
              <a:alpha val="40000"/>
            </a:srgbClr>
          </a:solidFill>
          <a:ln w="1260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S Enroll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870440" y="2530440"/>
            <a:ext cx="3968640" cy="2995560"/>
          </a:xfrm>
          <a:prstGeom prst="rect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Object 7" descr=""/>
          <p:cNvPicPr/>
          <p:nvPr/>
        </p:nvPicPr>
        <p:blipFill>
          <a:blip r:embed="rId2"/>
          <a:stretch/>
        </p:blipFill>
        <p:spPr>
          <a:xfrm>
            <a:off x="4876920" y="2530440"/>
            <a:ext cx="3962160" cy="297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570-F8C2-4287-8138-D9BE1BEFC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6"/>
          <p:cNvSpPr/>
          <p:nvPr/>
        </p:nvSpPr>
        <p:spPr>
          <a:xfrm>
            <a:off x="609480" y="2438280"/>
            <a:ext cx="76201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lanned to include the Depts in Banner System for the admission (expected to start in 09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ill consequently lead to a paperless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xt phase for DGS is the implementation of Banner for All Academic Affairs like Readmissions, Degree Plans, Thesis Proposals, Oral Defense, etc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14300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636-671F-46B4-BB1C-6A9D3E2917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rogress of PhD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F26-51BF-4421-9AD8-F15682B102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hD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609480" y="2273400"/>
            <a:ext cx="80010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nce Exam is not anymore required by the University – (Optional to Dept. on student-by-student ba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is required to pass the comprehensive exam by end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 of enroll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ed to finish ALL courses before setting for the Comp. Exam (exam is on 4-6 courses on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 proposal needs to be submitted by end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, max duration for MS and PhD programs is being revi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D30-2E88-4B07-8E99-E060668562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ole of a Graduate Coordinator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5F4-F3D0-49A5-857C-7D1284A804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457200" y="2193840"/>
            <a:ext cx="830592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te Coordinators serve as liaisons between students, faculty and administration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te Studies &amp; Depar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GS looks to Graduate Coordinators for input so that its services can be impr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should be familiar with the academic policies, procedure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st of all Graduate Students should be maintained with their current progress [e.g. degree plan submission, courses completed, thesis proposal, comprehensive exam, etc.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06668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or Graduate Stu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8FA-388F-4611-A88B-58598A18D8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609480" y="2433600"/>
            <a:ext cx="762012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ordinators need to be the head of a Departmental Graduate Committee that works to efficiently serve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need to be updated about the latest policies, procedures and standards of DGS and also keep the department informed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1066680" y="13557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or Department Fa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D5C-65BD-460D-A91E-D6EE3F0ADD0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609480" y="213372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the first contact point for students encountering difficul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students with advices on provisional status, degree plans, possible research topics, available resources and advisor avail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progress towards completion by all candidates enrolled in the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tudents updated of relevant policies, procedures, due dates.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143000" y="1203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or Graduate Stud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D92-DD13-43BA-981F-D4ADD1905A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Awareness on the Rules &amp; Regulations of Graduate Stud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1FF-8C4E-4278-96E0-7B26FF85244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609480" y="2057400"/>
            <a:ext cx="792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present on the website of Graduate Stud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status from provisional t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ving GRE/TOEFL/Deficiency Cours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ring Credits from an unfinished degree at another i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ing more hours than allowed,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143000" y="1203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Academic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418-CA08-4C2B-AC0E-EEE5E32049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1219320" y="13557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Flow of Academic 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lowchart: Process 5"/>
          <p:cNvSpPr/>
          <p:nvPr/>
        </p:nvSpPr>
        <p:spPr>
          <a:xfrm>
            <a:off x="3124080" y="2362320"/>
            <a:ext cx="2590920" cy="53316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(Initi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lowchart: Process 7"/>
          <p:cNvSpPr/>
          <p:nvPr/>
        </p:nvSpPr>
        <p:spPr>
          <a:xfrm>
            <a:off x="3124080" y="3200400"/>
            <a:ext cx="2590920" cy="53352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’s Graduate Coordinator (Appr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lowchart: Process 8"/>
          <p:cNvSpPr/>
          <p:nvPr/>
        </p:nvSpPr>
        <p:spPr>
          <a:xfrm>
            <a:off x="3124080" y="4724280"/>
            <a:ext cx="2590920" cy="53352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of Graduate Studies (Final Appr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lowchart: Process 9"/>
          <p:cNvSpPr/>
          <p:nvPr/>
        </p:nvSpPr>
        <p:spPr>
          <a:xfrm>
            <a:off x="3124080" y="3962520"/>
            <a:ext cx="2590920" cy="53316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Chairman (Appro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lowchart: Process 10"/>
          <p:cNvSpPr/>
          <p:nvPr/>
        </p:nvSpPr>
        <p:spPr>
          <a:xfrm>
            <a:off x="3124080" y="5486400"/>
            <a:ext cx="2590920" cy="533520"/>
          </a:xfrm>
          <a:prstGeom prst="flowChartProcess">
            <a:avLst/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r (Proper 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Straight Arrow Connector 11"/>
          <p:cNvCxnSpPr/>
          <p:nvPr/>
        </p:nvCxnSpPr>
        <p:spPr>
          <a:xfrm flipH="1">
            <a:off x="4419360" y="289512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Straight Arrow Connector 12"/>
          <p:cNvCxnSpPr/>
          <p:nvPr/>
        </p:nvCxnSpPr>
        <p:spPr>
          <a:xfrm flipH="1">
            <a:off x="4419360" y="37335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2" name="Straight Arrow Connector 13"/>
          <p:cNvCxnSpPr/>
          <p:nvPr/>
        </p:nvCxnSpPr>
        <p:spPr>
          <a:xfrm flipH="1">
            <a:off x="4419360" y="449532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3" name="Straight Arrow Connector 14"/>
          <p:cNvCxnSpPr/>
          <p:nvPr/>
        </p:nvCxnSpPr>
        <p:spPr>
          <a:xfrm flipH="1">
            <a:off x="4419360" y="525744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86A-0D22-4D95-865F-7BB9860F4C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2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DD0-CC32-46B1-B0E7-FE0961FF6F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457200" y="2193840"/>
            <a:ext cx="82296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admitted with academic deficiencies is referred to as a PROVISIONAL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cademic deficiencies could be GRE, GMAT, TOEFL, Deficiency Courses, GPA in first 6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fulfill these deficiencies within the first semester of ad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changed into Regular within first semester, students will be held from registration in next seme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114300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Provisional &amp; Regular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265-9ED2-4A37-9CC8-ACC6D0EE8A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6"/>
          <p:cNvSpPr/>
          <p:nvPr/>
        </p:nvSpPr>
        <p:spPr>
          <a:xfrm>
            <a:off x="533520" y="2554200"/>
            <a:ext cx="82296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use the academic petition form when they have fulfilled the academic defici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ch a petition is approved, the student will becom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 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143000" y="1432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Removal of Provisional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044-A331-41B4-AD49-5C53D041E47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457200" y="2527200"/>
            <a:ext cx="8229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st is prepared twice every seme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names of students who are still on Provisional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students should arrange to remove the names from the list by changing into Reg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failing to do so will be put on registration HOLD and will not be allowed to register for the forthcoming seme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1143000" y="14320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Hold 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684-37D7-4C18-8111-D046D390C62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6"/>
          <p:cNvSpPr/>
          <p:nvPr/>
        </p:nvSpPr>
        <p:spPr>
          <a:xfrm>
            <a:off x="457200" y="2333520"/>
            <a:ext cx="822960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available on DGS website in excel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roadmap for earning a de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what a student has achieved and what is still needed for completing the degree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a student from taking unnecessary courses that may not be approved, which could waste hi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submit their Degree Plans in the second semester of admission at maxim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1066680" y="135576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Degree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541-1ABD-4F62-8256-4F579CF9F1C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533520" y="2270160"/>
            <a:ext cx="82296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graduate student has to maintain a minim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of 3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ith GP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han 3.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placed on an academic probation and they should eventually raise their G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status is reviewed every semester and will be issued Warning or Severe Warning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raise the GPA above 3.00 will resul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s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06668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GPA &amp; Warning Poli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556-E86F-4879-9B40-F4CEA8DC616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457200" y="2692440"/>
            <a:ext cx="82296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tudents need to register for the Thesis once they finish their cour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they will be considered inactive and need re-ad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needs to register for the thesis in order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the thesis propos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d the th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685800" y="1371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Calibri"/>
              </a:rPr>
              <a:t>Thesis/Dissertation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DF2-80B2-46E6-A57C-DD9B248637C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457200" y="2692440"/>
            <a:ext cx="8229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and Committee should be approved by Department Council, College Council and by Deanship of Graduate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required forms available on DGS web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refer to the chapter on Thesis in the updated Graduate Bulletin on the website of Graduate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685800" y="13716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Calibri"/>
              </a:rPr>
              <a:t>Thesis/Dissertation Proposal &amp; Committee Appoin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B12-B1DB-4FE9-B8B3-EBDFBD401A3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6"/>
          <p:cNvSpPr/>
          <p:nvPr/>
        </p:nvSpPr>
        <p:spPr>
          <a:xfrm>
            <a:off x="533520" y="243828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oral defense is required from all M.Sc and PhD students as a part of their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al defense form has to be submitted 2 weeks to DGS before the intended date of def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gap between the proposal approval date and oral defense request is 3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defense is not allowed during the registration periods, final examinations and summer seme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838080" y="14778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Calibri"/>
              </a:rPr>
              <a:t>Public Oral Defense of Thesis/Disser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C02-D66B-41F5-8410-0D77CB00480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Readmiss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78" name="TextBox 6"/>
          <p:cNvSpPr/>
          <p:nvPr/>
        </p:nvSpPr>
        <p:spPr>
          <a:xfrm>
            <a:off x="457200" y="2174760"/>
            <a:ext cx="82296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ollowing stude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4452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 for one seme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34452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rop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rses in a seme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time graduate students, RAs, Lecturers-B are NOT allowed to drop a semester or withdraw from ALL cour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can get re-admission for 3 times at max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 be submitte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4 weeks before the start of the intended semester to the depart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udents inactive for more than 6 semesters, their cases have to be approved by Dept., College and Graduate Councils!!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3D0-D27F-4659-A1E5-2200CD21207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>
            <a:off x="1143000" y="127944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Calibri"/>
              </a:rPr>
              <a:t>Important Deadlines at D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838080" y="2209680"/>
          <a:ext cx="7543800" cy="381492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cademic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ad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admission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 week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anging Degree Obj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month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gree Plan Sub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d of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Semester from initial ad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ral defense Request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weeks before intended defens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st day of def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st day of 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st day for clearing pending issues to avoid 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 week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662-2AD7-401D-A5DB-24EB00B66F2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Master Students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B6B9-41D6-4827-B83B-5900AFE0FD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99840" y="2819520"/>
            <a:ext cx="57913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  <a:ea typeface="Arial"/>
              </a:rPr>
              <a:t>THANK YOU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047-9BB7-4730-98F9-9EFABC0E918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PhD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090880"/>
            <a:ext cx="9172440" cy="35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9FF-9FA8-454B-8AEA-E946955F0C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Strategic Roadma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Vis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able KFUPM be a leader in the region in providing quality graduate programs in Science, Engineering and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Miss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quality graduate programs according to the best international practices that will enhance the research environment at KFUPM and contribute to the dissemination of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D41-C9D2-4F8C-ACD1-A3C224392F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Strategic Roadma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Goal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the research environment at KFU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knowledge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quality and efficiency of the graduate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quality and diversity in graduate student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efficiency of the Deanship of Graduate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C73-B0F0-45A3-8938-12B3FB5197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Strategic Roadma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Times New Roman"/>
                <a:ea typeface="Arial"/>
              </a:rPr>
              <a:t>Performance Indicator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 to undergraduate student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te student to faculty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active PhD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time for program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n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thesis-based degrees granted ann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non-thesis degrees granted annu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processing time for admission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processing time for academic pe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379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udi to non-Saudi student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56C-485E-424E-A433-9115FBD58F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J Pullin</dc:creator>
  <dc:description/>
  <dc:language>en-US</dc:language>
  <cp:lastModifiedBy>Salam Zummo</cp:lastModifiedBy>
  <dcterms:modified xsi:type="dcterms:W3CDTF">2009-04-11T11:54:15Z</dcterms:modified>
  <cp:revision>264</cp:revision>
  <dc:subject/>
  <dc:title>Chapter 1 Data Communications and Networks Overview</dc:title>
</cp:coreProperties>
</file>