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80FA9-A140-443E-BE2E-B0F40E476986}" type="slidenum">
              <a:rPr b="0" lang="ar-S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284CF-AD62-4E3A-8E34-C32CC5745DA9}" type="slidenum">
              <a:rPr b="0" lang="ar-S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A39990-909B-413D-A8E1-C5B25A5F8BB4}" type="slidenum">
              <a:rPr b="0" lang="ar-SA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41D9A-74A0-402B-8A92-4F5329DC5732}" type="slidenum">
              <a:rPr b="0" lang="ar-S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7B872C-5445-43A5-AA6C-5C08F2AF5CDA}" type="slidenum">
              <a:rPr b="0" lang="ar-SA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F8BC2-A93A-46EF-82CA-126B4FE5EA3E}" type="slidenum">
              <a:rPr b="0" lang="ar-S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544423-89B2-4298-A34B-973C81798E92}" type="slidenum">
              <a:rPr b="0" lang="ar-SA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3352C-9552-4827-A0AA-64DB0ECE9C90}" type="slidenum">
              <a:rPr b="0" lang="ar-S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C77BE6-E881-4030-85E2-85C1199EDBA5}" type="slidenum">
              <a:rPr b="0" lang="ar-SA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427-EF2B-4756-867C-EEFAE166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3E3-6346-40EB-B456-2E64140A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18B-4454-4BF4-A6DA-B06545AA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B8D-C6D1-4C0D-8332-91FFB8F8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E1D6-93AE-4589-8EEF-5EE6ADFF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8B77-D70E-4BEC-978A-54985F4D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A36E-C071-42F5-97B9-3AB98329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EA45-50CA-4AAB-ABAE-F674E89E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31B0-4277-4853-A33E-350565B8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65880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E779-A67F-4CDD-BFC6-CF9B76CE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7918-2FCB-4239-8F14-9C1471DF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4EA-2E56-40D8-9C69-2996D756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E4D5-5F32-4C02-B974-1C3D35BD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3CFE-3109-4B14-9E10-7265B493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4C2F-678F-430E-9EAD-ACA134BA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E545-2F6A-4AC1-85C9-E96ACFC5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8597-9801-4C22-B0A9-85183595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0BD-5219-48EB-9E04-3D2E1FF3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D55-F121-4500-892F-953DD550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14E-35B3-4C0F-BBBD-B5985202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5880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2F6-48F8-441F-806B-1D39E7C0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C9E-F8A9-4943-A801-74979F69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76A-D35F-4AB9-AFD5-7D9693B2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B66-1DED-4532-BAC9-DFA36DE4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22400" indent="-351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39920" indent="-316080">
              <a:spcBef>
                <a:spcPts val="7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1681200" indent="-33984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24120"/>
            <a:ext cx="990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324120"/>
            <a:ext cx="106668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7F23-90D2-4B73-9394-9C0E715891C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51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383B-8100-40DE-ADFE-46FD50467FD5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3445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71400" algn="ctr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990720" y="1371600"/>
            <a:ext cx="5943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Strategic Roadmap and Latest Initiatives of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Deanship of Graduate Stu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eanship of Graduate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April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80880" y="228600"/>
          <a:ext cx="8229600" cy="6597720"/>
        </p:xfrm>
        <a:graphic>
          <a:graphicData uri="http://schemas.openxmlformats.org/drawingml/2006/table">
            <a:tbl>
              <a:tblPr/>
              <a:tblGrid>
                <a:gridCol w="428760"/>
                <a:gridCol w="1514520"/>
                <a:gridCol w="1285920"/>
                <a:gridCol w="1285920"/>
                <a:gridCol w="1285560"/>
                <a:gridCol w="1143000"/>
                <a:gridCol w="1285920"/>
              </a:tblGrid>
              <a:tr h="2764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KP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I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 the research environment at KFU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knowledge dissemin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quality and efficiency of the graduate progr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diversity in graduate student bo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efficiency of the Deanship of Graduate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uate to undergraduate student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uate student to faculty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active PhD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time for program 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entio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thesis-based degrees granted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non-thesis degrees granted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processing time for admission ap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processing time for academic pet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udi to non-Saudi student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11F-B953-44B1-B96D-EB94A5BAA6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Other Performance Indicator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Lecturers-B and RAs who reported to KFUP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admitted stud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lled-to-admitted graduate students rat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-to-enrolled graduate students rat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outs-to-active graduate students rat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missed-to-active graduate student rat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students on scholarship from internal and external agenc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 rate: Ratio of completed credit hours with a grade of B and above to total completed credit h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ntage of enrolled students to those given admi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ntages of full &amp; part-time stud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A35-48D0-4445-9D0B-84A0F52ABF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mprove incentives for graduate studen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the salary package of RA’s and Lecturer-B’s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Proposal is under study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the salary package of Saudi Graduate Assistants (GA’s)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Approved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graduate scholarship programs that are funded by either KFUPM or companies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ARAMCO in ES and PETE, working for others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068-340E-4782-B495-120D4F7237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troduce research-focused PhD program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 research-based courses in PhD Programs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proposal in University Board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 PhD programs with less course work requirement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Extension of above – not yet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more flexible and comprehensive PhD programs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To be discussed in Graduate Council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79C-3CAB-4CFE-A988-3950FF20E3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educe Visa delay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e Student Visa for international graduate students (through scholarship programs)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Under study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up Visa processing time from the Personnel Department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Synchronization of processes was established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KFUPM Visa limit that was set long time ago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Request was submitted for CoRE’s and RI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097-682C-4268-A316-5670971F07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mprove environment for graduate studen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 on-campus housing for PhD married students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Done in 081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ablish the following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 the role of the CAAC to handle the problems of graduate stud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a Graduate Student’s Club.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International Student Office (to serve their nee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e a Welcome Day/week for Graduate Students.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, 1</a:t>
            </a:r>
            <a:r>
              <a:rPr b="0" i="1" lang="en-US" sz="2000" spc="-1" strike="noStrike" baseline="30000">
                <a:solidFill>
                  <a:srgbClr val="3b812f"/>
                </a:solidFill>
                <a:latin typeface="Times New Roman"/>
              </a:rPr>
              <a:t>st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 Day was in 081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e workshops for development of graduate students with the cooperation of DAD (e.g., in research, teaching, CV writing, proposal writing, etc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9BE-0DC0-4908-A23E-A55C87FD91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crease internal efficiency of the DG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admission/advising proce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 DGS processes 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b812f"/>
                </a:solidFill>
                <a:latin typeface="Times New Roman"/>
              </a:rPr>
              <a:t>Done for Admission – project started for other functions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blish/Enhance the role of the Graduate Coordinators in departments. 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b812f"/>
                </a:solidFill>
                <a:latin typeface="Times New Roman"/>
              </a:rPr>
              <a:t>In progress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 the file processing time at the departments and DGS 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b812f"/>
                </a:solidFill>
                <a:latin typeface="Times New Roman"/>
              </a:rPr>
              <a:t>3 weeks at Dept.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blish a Thesis Office 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b812f"/>
                </a:solidFill>
                <a:latin typeface="Times New Roman"/>
              </a:rPr>
              <a:t>Done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e an Academic Calendar 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b812f"/>
                </a:solidFill>
                <a:latin typeface="Times New Roman"/>
              </a:rPr>
              <a:t>Done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vise tuition fees for part-time graduate stud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In progress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C60-4541-46CA-8495-6B5D364C5F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stablish an outreach program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visit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 regional/international universities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 – Egypt, India, Pakistan, Turkey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ze MS scholarships from Gulf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h to Saudi honor students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 in 081 and 082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hance marketing mate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easily accessible Website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brochures, handouts and presentations for marketing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 in advertising websites for graduate stud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are standard presentations for visits and website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2E3-2697-4496-B9CB-6996221430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Introduce research-based courses in MS-Engg. programs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Establish English programs for graduate students </a:t>
            </a:r>
            <a:r>
              <a:rPr b="0" lang="en-US" sz="22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b812f"/>
                </a:solidFill>
                <a:latin typeface="Times New Roman"/>
              </a:rPr>
              <a:t>In progress in coordination with CASS</a:t>
            </a:r>
            <a:r>
              <a:rPr b="0" lang="en-US" sz="2200" spc="-1" strike="noStrike">
                <a:solidFill>
                  <a:srgbClr val="3b812f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b812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Revise graduate studies unified regulations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b812f"/>
                </a:solidFill>
                <a:latin typeface="Times New Roman"/>
              </a:rPr>
              <a:t>In progress</a:t>
            </a:r>
            <a:r>
              <a:rPr b="0" lang="en-US" sz="22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Introduce different PhD and MS tracks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Establish new internationally recognized programs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alist Degrees (below M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fessional Degrees (below Ph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Establish international joint thesis supervision programs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b812f"/>
                </a:solidFill>
                <a:latin typeface="Times New Roman"/>
              </a:rPr>
              <a:t>In progress</a:t>
            </a:r>
            <a:r>
              <a:rPr b="0" lang="en-US" sz="22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Provide graduate programs outside KFUPM campu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E93-8FBD-4BDA-B8B7-584411EE7D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apping Goals/Strategies Matrix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038240"/>
          <a:ext cx="8229600" cy="5667480"/>
        </p:xfrm>
        <a:graphic>
          <a:graphicData uri="http://schemas.openxmlformats.org/drawingml/2006/table">
            <a:tbl>
              <a:tblPr/>
              <a:tblGrid>
                <a:gridCol w="285840"/>
                <a:gridCol w="1657440"/>
                <a:gridCol w="1285560"/>
                <a:gridCol w="1285920"/>
                <a:gridCol w="1285920"/>
                <a:gridCol w="1143000"/>
                <a:gridCol w="1285920"/>
              </a:tblGrid>
              <a:tr h="2764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trateg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I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 the research environment at KFU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knowledge dissemination in the socie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quality and efficiency of the graduate 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diversity in graduate student bo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efficiency of the processes of the Deanship of Graduate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incentives for graduate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e research-focused PhD 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e Visa del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 required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environment for graduate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internal process efficiency of the Deanship of Graduate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 an outreach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e research-based courses in MS-Engg. 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082-594A-4AC6-AD78-20B6C8B45E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Out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Graduate Statisti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Strategic Roadm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valuation of Admission Application Fil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nline Application System (BANNE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gress of PhD Stud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ole of a Graduate Coordinat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wareness on the Rules &amp; Regulations of Graduate Stud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C75-3B39-46F2-A10E-35950E8B90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700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Goals/Strategies Matrix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143000"/>
          <a:ext cx="8229600" cy="5118120"/>
        </p:xfrm>
        <a:graphic>
          <a:graphicData uri="http://schemas.openxmlformats.org/drawingml/2006/table">
            <a:tbl>
              <a:tblPr/>
              <a:tblGrid>
                <a:gridCol w="285840"/>
                <a:gridCol w="1657440"/>
                <a:gridCol w="1285560"/>
                <a:gridCol w="1285920"/>
                <a:gridCol w="1285920"/>
                <a:gridCol w="1143000"/>
                <a:gridCol w="1285920"/>
              </a:tblGrid>
              <a:tr h="2764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trateg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I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 the research environment at KFU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knowledge dissemination in the socie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quality and efficiency of the graduate 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diversity in graduate student bo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efficiency of the processes of the Deanship of Graduate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 English programs for graduate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ise graduate studies unified regu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e different PhD tracks for MS and BS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 new internationally recognized progra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 joint thesis supervision 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de graduate programs outside KFUPM camp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35F-7CC1-4EB0-9BDB-2AA2E8BE46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Ol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Organizational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 Structur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19480" y="2325240"/>
            <a:ext cx="6212880" cy="3526560"/>
            <a:chOff x="1419480" y="2325240"/>
            <a:chExt cx="6212880" cy="3526560"/>
          </a:xfrm>
        </p:grpSpPr>
        <p:sp>
          <p:nvSpPr>
            <p:cNvPr id="141" name=""/>
            <p:cNvSpPr/>
            <p:nvPr/>
          </p:nvSpPr>
          <p:spPr>
            <a:xfrm>
              <a:off x="3602520" y="2325240"/>
              <a:ext cx="2014920" cy="67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duate Stud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19480" y="2325240"/>
              <a:ext cx="1511280" cy="67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duate Counc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5080" y="3668760"/>
              <a:ext cx="1007280" cy="67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ean’s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02520" y="3668760"/>
              <a:ext cx="2014920" cy="67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ssistant Dean Graduate Stud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27120" y="5180040"/>
              <a:ext cx="1343160" cy="67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dmission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5180040"/>
              <a:ext cx="1679040" cy="67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ademic Affairs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10160" y="2997000"/>
              <a:ext cx="72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10160" y="4340520"/>
              <a:ext cx="720" cy="5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98880" y="4844520"/>
              <a:ext cx="2350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49680" y="4844520"/>
              <a:ext cx="72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98880" y="4844520"/>
              <a:ext cx="72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7440" y="26611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29080" y="2661120"/>
              <a:ext cx="72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17440" y="4004640"/>
              <a:ext cx="100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930400" y="2661120"/>
              <a:ext cx="671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493-CF99-4974-9BAD-CB74A53278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2560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ew Organizational Structure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07960" y="2141640"/>
            <a:ext cx="8255160" cy="3555720"/>
            <a:chOff x="507960" y="2141640"/>
            <a:chExt cx="8255160" cy="3555720"/>
          </a:xfrm>
        </p:grpSpPr>
        <p:sp>
          <p:nvSpPr>
            <p:cNvPr id="158" name=""/>
            <p:cNvSpPr/>
            <p:nvPr/>
          </p:nvSpPr>
          <p:spPr>
            <a:xfrm>
              <a:off x="3556080" y="2141640"/>
              <a:ext cx="203184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aduate Stud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3960" y="2141640"/>
              <a:ext cx="152424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aduate Counc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03840" y="3495600"/>
              <a:ext cx="1016280" cy="67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an’s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56080" y="3495600"/>
              <a:ext cx="2031840" cy="67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sistant Dean Graduate Stud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70240" y="5021280"/>
              <a:ext cx="1355760" cy="67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mission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64040" y="5021280"/>
              <a:ext cx="1693800" cy="67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ademic Affairs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5021280"/>
              <a:ext cx="1354320" cy="676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uditing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7960" y="5021280"/>
              <a:ext cx="1354320" cy="676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ption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0120" y="5021280"/>
              <a:ext cx="1143000" cy="676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reach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0" y="2817720"/>
              <a:ext cx="144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4173480"/>
              <a:ext cx="144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5840" y="4681440"/>
              <a:ext cx="694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28080" y="468144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3760" y="468144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0040" y="4681440"/>
              <a:ext cx="180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8120" y="4681440"/>
              <a:ext cx="144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5840" y="468144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87920" y="24796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12160" y="2479680"/>
              <a:ext cx="144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7920" y="3835440"/>
              <a:ext cx="10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877840" y="2479680"/>
              <a:ext cx="677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315-8ABB-406F-AF32-617D01CCDB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valuation of Admission Application Fil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01C-EEF6-469C-AA88-80644ABCFF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609480" y="2209680"/>
            <a:ext cx="76201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and receiving files in batches (by hand) has proven to be effic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los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batches are sent every semester, one every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s kindly need to send back all these batches within the deadline (3 weeks) to facilitate timely admission dec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1143000" y="1203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Sending and Receiving F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442-8881-4520-87ED-CBBA4A484F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6"/>
          <p:cNvSpPr/>
          <p:nvPr/>
        </p:nvSpPr>
        <p:spPr>
          <a:xfrm>
            <a:off x="609480" y="2197080"/>
            <a:ext cx="762012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um TOEFL score required is (68 IBT) for Master and (79 IBT) for Doctoral Applic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LTS is also acceptable. Min Score 5.5 – Master , 6.5 Doct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if GRE/GMAT or TOEFL scores are not present, Departments kindly need to evaluate the files by clearly mentioning the required scores for admis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066680" y="1203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Test Sc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C96-3206-4C67-A4B6-98A0169BFD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609480" y="2508120"/>
            <a:ext cx="76201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trongly recommend that admission applications be discussed in a committee meeting rather than circulating among the me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o make the evaluation and recommendation more meaning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1066680" y="13557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Evaluation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223-93B1-4A24-8DF8-2C7D5A48FA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609480" y="2133720"/>
            <a:ext cx="792504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Degree admission is NO longer acce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atisfying one of the following 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 &lt; 2.5 (at least 2-year experi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with English De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is many deficiency cour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year to finish the Pre-Gra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3 grad courses, 2 of which are core with &gt; B in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ed periodically to dismiss low-performing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 courses taken are counted towards the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1066680" y="12952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Pre-Graduate Adm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D13-8D05-4896-895B-ECF9891F8E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Online Application System (BANNER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91C-D5C7-4351-B0E2-AD62AB72EB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609480" y="2409840"/>
            <a:ext cx="76201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duate Studies has started using Banner for admis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ith other ERP systems, Banner brings multiple departments under one ro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tatistical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will be stored for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is sca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1066680" y="1339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8B1-DC03-4792-A430-66F00CE8E6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Graduate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519120" y="2158920"/>
            <a:ext cx="4127400" cy="393840"/>
          </a:xfrm>
          <a:prstGeom prst="rect">
            <a:avLst/>
          </a:prstGeom>
          <a:solidFill>
            <a:srgbClr val="7c6b4d">
              <a:alpha val="40000"/>
            </a:srgbClr>
          </a:solidFill>
          <a:ln w="1260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hD Enroll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34960" y="2530440"/>
            <a:ext cx="4113360" cy="3008520"/>
          </a:xfrm>
          <a:prstGeom prst="rect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685800" y="2604960"/>
            <a:ext cx="3962520" cy="2828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862520" y="2133720"/>
            <a:ext cx="3976560" cy="393480"/>
          </a:xfrm>
          <a:prstGeom prst="rect">
            <a:avLst/>
          </a:prstGeom>
          <a:solidFill>
            <a:srgbClr val="cc9900">
              <a:alpha val="40000"/>
            </a:srgbClr>
          </a:solidFill>
          <a:ln w="1260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S Enroll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870440" y="2530440"/>
            <a:ext cx="3968640" cy="2995560"/>
          </a:xfrm>
          <a:prstGeom prst="rect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Object 7" descr=""/>
          <p:cNvPicPr/>
          <p:nvPr/>
        </p:nvPicPr>
        <p:blipFill>
          <a:blip r:embed="rId2"/>
          <a:stretch/>
        </p:blipFill>
        <p:spPr>
          <a:xfrm>
            <a:off x="4876920" y="2530440"/>
            <a:ext cx="3962160" cy="297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181-B0C6-4B06-A991-1D43F46D2F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6"/>
          <p:cNvSpPr/>
          <p:nvPr/>
        </p:nvSpPr>
        <p:spPr>
          <a:xfrm>
            <a:off x="609480" y="2438280"/>
            <a:ext cx="76201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lanned to include the Depts in Banner System for the admission (expected to start in 09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ill consequently lead to a paperless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xt phase for DGS is the implementation of Banner for All Academic Affairs like Readmissions, Degree Plans, Thesis Proposals, Oral Defense, etc.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143000" y="12794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Future Pl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635-C4E2-4362-9C41-D6C7D51242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rogress of PhD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DFF-4C6D-4F86-A201-FEB4ABDDE9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hD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609480" y="2273400"/>
            <a:ext cx="80010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nce Exam is not anymore required by the University – (Optional to Dept. on student-by-student ba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 is required to pass the comprehensive exam by end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ar of enroll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ed to finish ALL courses before setting for the Comp. Exam (exam is on 4-6 courses on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is proposal needs to be submitted by end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, max duration for MS and PhD programs is being revi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9B4-239B-4B80-A82E-9F4CD77B7D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ole of a Graduate Coordinato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BBC-0F0D-446B-B2A0-3FAA499C2A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457200" y="2193840"/>
            <a:ext cx="83059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ate Coordinators serve as liaisons between students, faculty and administration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ate Studies &amp; Depar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GS looks to Graduate Coordinators for input so that its services can be impr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should be familiar with the academic policies, procedures and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st of all Graduate Students should be maintained with their current progress [e.g. degree plan submission, courses completed, thesis proposal, comprehensive exam, etc.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1066680" y="12794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For Graduate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255-8D8A-413C-ACE6-7DB855065D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609480" y="2433600"/>
            <a:ext cx="76201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ordinators need to be the head of a Departmental Graduate Committee that works to efficiently serve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need to be updated about the latest policies, procedures and standards of DGS and also keep the department informed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066680" y="13557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For Department Fa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635-9080-4A04-936B-C3E68B0210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609480" y="213372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the first contact point for students encountering difficul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students with advices on provisional status, degree plans, possible research topics, available resources and advisor avail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progress towards completion by all candidates enrolled in the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tudents updated of relevant policies, procedures, due dates.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143000" y="1203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For Graduate Stud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498-FF38-49F1-B736-28AB0B2677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wareness on the Rules &amp; Regulations of Graduate Studi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D3E-A6BC-490F-BD32-289F242DB5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/>
          <p:cNvSpPr/>
          <p:nvPr/>
        </p:nvSpPr>
        <p:spPr>
          <a:xfrm>
            <a:off x="609480" y="2057400"/>
            <a:ext cx="7925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present on the website of Graduate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used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status from provisional to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ving GRE/TOEFL/Deficiency Course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ring Credits from an unfinished degree at another i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ing more hours than allowed, etc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143000" y="1203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Academic 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C57-F2C9-48FF-8F3F-3E80C56357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1219320" y="13557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Flow of Academic 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lowchart: Process 5"/>
          <p:cNvSpPr/>
          <p:nvPr/>
        </p:nvSpPr>
        <p:spPr>
          <a:xfrm>
            <a:off x="3124080" y="2362320"/>
            <a:ext cx="2590920" cy="53316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 (Initi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lowchart: Process 7"/>
          <p:cNvSpPr/>
          <p:nvPr/>
        </p:nvSpPr>
        <p:spPr>
          <a:xfrm>
            <a:off x="3124080" y="3200400"/>
            <a:ext cx="2590920" cy="53352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’s Graduate Coordinator (Appro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lowchart: Process 8"/>
          <p:cNvSpPr/>
          <p:nvPr/>
        </p:nvSpPr>
        <p:spPr>
          <a:xfrm>
            <a:off x="3124080" y="4724280"/>
            <a:ext cx="2590920" cy="53352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 of Graduate Studies (Final Appro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lowchart: Process 9"/>
          <p:cNvSpPr/>
          <p:nvPr/>
        </p:nvSpPr>
        <p:spPr>
          <a:xfrm>
            <a:off x="3124080" y="3962520"/>
            <a:ext cx="2590920" cy="53316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Chairman (Appro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lowchart: Process 10"/>
          <p:cNvSpPr/>
          <p:nvPr/>
        </p:nvSpPr>
        <p:spPr>
          <a:xfrm>
            <a:off x="3124080" y="5486400"/>
            <a:ext cx="2590920" cy="53352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r (Proper A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Straight Arrow Connector 11"/>
          <p:cNvCxnSpPr/>
          <p:nvPr/>
        </p:nvCxnSpPr>
        <p:spPr>
          <a:xfrm flipH="1">
            <a:off x="4419360" y="289512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Straight Arrow Connector 12"/>
          <p:cNvCxnSpPr/>
          <p:nvPr/>
        </p:nvCxnSpPr>
        <p:spPr>
          <a:xfrm flipH="1">
            <a:off x="4419360" y="373356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2" name="Straight Arrow Connector 13"/>
          <p:cNvCxnSpPr/>
          <p:nvPr/>
        </p:nvCxnSpPr>
        <p:spPr>
          <a:xfrm flipH="1">
            <a:off x="4419360" y="449532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3" name="Straight Arrow Connector 14"/>
          <p:cNvCxnSpPr/>
          <p:nvPr/>
        </p:nvCxnSpPr>
        <p:spPr>
          <a:xfrm flipH="1">
            <a:off x="4419360" y="525744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50E-EAAF-4FE1-B3CD-EE77D7E34A9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Graduate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02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099-E1FB-4CDA-B14E-688E86E441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457200" y="2193840"/>
            <a:ext cx="82296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admitted with academic deficiencies is referred to as a PROVISIONAL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cademic deficiencies could be GRE, GMAT, TOEFL, Deficiency Courses, GPA in first 6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hould fulfill these deficiencies within the first semester of ad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changed into Regular within first semester, students will be held from registration in next seme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1143000" y="12794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Provisional &amp; Regular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189-936D-492B-86FE-AB6F07266CA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533520" y="2554200"/>
            <a:ext cx="82296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use the academic petition form when they have fulfilled the academic defici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ch a petition is approved, the student will becom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 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143000" y="1432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Removal of Provisional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48B-8893-4405-AFC1-EEACAD56938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457200" y="2527200"/>
            <a:ext cx="8229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st is prepared twice every seme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names of students who are still on Provisional St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students should arrange to remove the names from the list by changing into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failing to do so will be put on registration HOLD and will not be allowed to register for the forthcoming seme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4"/>
          <p:cNvSpPr/>
          <p:nvPr/>
        </p:nvSpPr>
        <p:spPr>
          <a:xfrm>
            <a:off x="1143000" y="1432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Hold 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1C9-F973-4F46-84A0-80915842BE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6"/>
          <p:cNvSpPr/>
          <p:nvPr/>
        </p:nvSpPr>
        <p:spPr>
          <a:xfrm>
            <a:off x="457200" y="2333520"/>
            <a:ext cx="822960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available on DGS website in excel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roadmap for earning a de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what a student has achieved and what is still needed for completing the degree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a student from taking unnecessary courses that may not be approved, which could waste his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hould submit their Degree Plans in the second semester of admission at maxim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1066680" y="13557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Degree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DF0-385F-4FC3-A41C-5B599597D1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533520" y="2270160"/>
            <a:ext cx="82296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graduate student has to maintain a minimu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 of 3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with GP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han 3.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placed on an academic probation and they should eventually raise their G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status is reviewed every semester and will be issued Warning or Severe Warning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raise the GPA above 3.00 will resul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s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066680" y="12794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GPA &amp; Warning Poli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5A8-EFB9-4022-AA87-4BB6AFC2CA5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457200" y="2692440"/>
            <a:ext cx="82296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tudents need to register for the Thesis once they finish their cour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they will be considered inactive and need re-ad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needs to register for the thesis in order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the thesis propo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d the th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685800" y="1371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Calibri"/>
              </a:rPr>
              <a:t>Thesis/Dissertation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65C-AE3B-47D1-B039-5C8B92FA5A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457200" y="269244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and Committee should be approved by Department Council, College Council and by Deanship of Graduate Stu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required forms available on DGS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refer to the chapter on Thesis in the updated Graduate Bulletin on the website of Graduate Stu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685800" y="13716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Calibri"/>
              </a:rPr>
              <a:t>Thesis/Dissertation Proposal &amp; Committee Appoin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6F6-D426-45C0-B45C-7CE254EBB04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6"/>
          <p:cNvSpPr/>
          <p:nvPr/>
        </p:nvSpPr>
        <p:spPr>
          <a:xfrm>
            <a:off x="533520" y="243828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ublic oral defense is required from all M.Sc and PhD students as a part of their deg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al defense form has to be submitted 2 weeks to DGS before the intended date of def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um gap between the proposal approval date and oral defense request is 3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defense is not allowed during the registration periods, final examinations and summer seme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838080" y="14778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Calibri"/>
              </a:rPr>
              <a:t>Public Oral Defense of Thesis/Disser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B7B-2F72-4321-9013-F8CB6AC1984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miss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78" name="TextBox 6"/>
          <p:cNvSpPr/>
          <p:nvPr/>
        </p:nvSpPr>
        <p:spPr>
          <a:xfrm>
            <a:off x="457200" y="2174760"/>
            <a:ext cx="822960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following studen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4452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ac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en for one seme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4452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ropp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rses in a seme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-time graduate students, RAs, Lecturers-B are NOT allowed to drop a semester or withdraw from ALL cour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can get re-admission for 3 times at max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ould be submitte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4 weeks before the start of the intended semester to the depart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udents inactive for more than 6 semesters, their cases have to be approved by Dept., College and Graduate Councils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2AA-AF44-4271-A41B-1B51FBA6B2D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1143000" y="12794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Important Deadlines at D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838080" y="2209680"/>
          <a:ext cx="7543800" cy="381492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ademic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ad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admission 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weeks before new semester st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anging Degree 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months before new semester st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gree Plan Sub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d of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Semester from initial ad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ral defense Request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weeks before intended defens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st day of def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st day of 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st day for clearing pending issues to avoid 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weeks before new semester st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683-0B71-4716-A5CB-6767A9E14D3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ctive Master Students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AB3-8B83-428B-BCF6-B65F71A199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99840" y="2819520"/>
            <a:ext cx="57913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  <a:ea typeface="Arial"/>
              </a:rPr>
              <a:t>THANK YOU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7FE-164F-4F00-BB5B-46F2882FA29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ctive PhD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090880"/>
            <a:ext cx="9172440" cy="35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DC6-E331-4C64-980C-FA80512996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Strategic Roadma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Vis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able KFUPM be a leader in the region in providing quality graduate programs in Science, Engineering and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Miss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quality graduate programs according to the best international practices that will enhance the research environment at KFUPM and contribute to the dissemination of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69E-4433-4BA6-B7A3-2AE21BC1F0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Strategic Roadma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Goal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 the research environment at KFU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knowledge disse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quality and efficiency of the graduate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quality and diversity in graduate student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efficiency of the Deanship of Graduate Stu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615-44FD-49EA-961B-F2F9ECC1A0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Strategic Roadma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  <a:ea typeface="Arial"/>
              </a:rPr>
              <a:t>Performance Indicator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uate to undergraduate student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uate student to faculty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active PhD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time for program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n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thesis-based degrees granted annu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non-thesis degrees granted annu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processing time for admission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processing time for academic pe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udi to non-Saudi student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860-FF65-4DF4-9B6E-2D8954C056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J Pullin</dc:creator>
  <dc:description/>
  <dc:language>en-US</dc:language>
  <cp:lastModifiedBy>Salam Zummo</cp:lastModifiedBy>
  <dcterms:modified xsi:type="dcterms:W3CDTF">2009-04-11T11:54:15Z</dcterms:modified>
  <cp:revision>264</cp:revision>
  <dc:subject/>
  <dc:title>Chapter 1 Data Communications and Networks Overview</dc:title>
</cp:coreProperties>
</file>