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39A6-755C-4F62-9598-D4445F8E29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1D2-B476-4FF1-B8F4-A69EE3A89E2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D67-94BE-4DD3-9B12-AEF0387EF3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6511-B30D-4B39-9624-032DDD7F0D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39F8-2C52-4CB8-9F1A-83E42CA6E2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B523-D383-41F6-B9B6-E6E5B5015E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EC9B-0B4A-4E74-B7FC-A3278D5990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FD1-AE22-431D-BED9-C8D93D0030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955-15C8-4344-9CFD-BE41A502564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72A2-5DB1-45D7-983D-1A75879403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223-A613-4F9A-8114-FCB5BDEA72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E79-BD24-4A98-85C0-91EB3C8836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80B6-4C46-4C76-8061-018AC9B8891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F86-584E-43F0-BA3B-244DAD21B5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14E7-DE7E-41FF-9BBB-341F5E2477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ED59-E4EB-4C41-9E4C-5AB2DDDDDC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676D-124B-4FFF-A808-3D387D8E7C0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6ACE-883D-4C8E-AC54-4BCD77CD474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5C54-748C-4D34-89AB-5C2762B9DFC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BBD-D5D6-4340-B785-4D9CB34AC51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456-4A4B-4198-883A-0098C6F771E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ACBB-0A42-4913-8DE3-1C49E5870BE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EF55-FC32-466A-823D-9C26E3DA61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01B0-865C-49C9-BDC0-E50E96DBB60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B113-34A6-4DC5-8C9C-E7BFAA2BF19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A69-C9F7-4689-A4B9-CE176D00A1E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ccff"/>
                </a:solidFill>
                <a:latin typeface="Verdana"/>
              </a:rPr>
              <a:t>Encourages Active Learning</a:t>
            </a: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Students do not learn much just sitting in classes listening to teachers and memorizing pre-packaged assignment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talk about what they are learning, write about it, relate it to past experiences and apply it to their daily li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make what they learn a part of themsel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Ask your students to present their work in clas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Gives Prompt Feedbac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Knowing what you know and don’t know focuses learning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getting started, students need help in assessing existing knowledge and competence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classes students need frequent opportunity to perform and get suggestions for improvement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They need a chance to reflect on what they have learned, what they still need to know and how to assess themselves.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Return assignments and tests within a week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Emphasizes Time on Tas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ime plus energy equals learning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here is no substitute for time on task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Learning to use time well is critical for students and professionals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Students need help in learning effective time manageme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llocating realistic amounts of time means effective learning for students and effective teaching for faculty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Expect your students to complete assignments promptl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Communicates High Expectation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 more and you will get it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High expectations are important for everyone – for the poorly prepared, for those unwilling to exert themselves, and for the bright and motivated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ing students to perform well becomes a self-fulfilling prophesy when teachers and institutions hold high expectations of themselves and make extra efforts.</a:t>
            </a:r>
            <a:r>
              <a:rPr b="0" lang="en-CA" sz="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</a:t>
            </a: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 students to excel at the work they do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Respects Diverse Talents and Ways of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here are many roads to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People come with different talents and styles of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rilliant students in the classroom may be not be good in the lab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rich in hands-on experience may not do so well in theory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2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need opportunity to show their talents in ways that work for them.</a:t>
            </a: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Encourage students to speak up when they do not understan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The UK &amp; Australian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This approach examin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students approach learning an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teachers approach teaching 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Students Approaches to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Surface Approach – intend to reproduc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Deep Approach – intend to understand, integrat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    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BUT – most students are capable of either – it seems to depend a lot on: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assessment demands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features of the learning environment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 flipH="1" flipV="1">
            <a:off x="6349320" y="373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Teachers Approaches to Teach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eacher-focused approach – focus is on transmissio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-centred approach – focus is on students developing their own understanding of concept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Interaction of both Approach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s taught with a teacher-focused approach are more likely to take a surface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Students taught with a more student-centred approach tend to take a more deep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 teacher focussed approach is practiced mor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BLOOM'S TAXONOM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굴림"/>
              </a:rPr>
              <a:t>Factors Influence Students’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Students Approaches to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ffective Teaching is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reasonable workloads is a key, even if it means reducing content “coverage”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cut down on lecture time and extend individual study time and time for designated projec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Teaching in Higher Education i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shifting the emphasis away from what is taught to what students lear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, understand, or discover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eachers wh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oduc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tudents who are higher achiev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Brilliant teaching reflect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personal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and the ability t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actice based on research on good teaching and learning in colleges and universitie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f implemented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Effective teaching must result in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“deep” learning and lifelong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Fostering an environment of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s a must for enhancing student learn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cc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One of the greatest sins in teaching i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Having a knowledge of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found that over 95 % of the test questions students encounter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require students to think only at the lowest possible level...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the recall of informatio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loom identified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within the 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North American Approach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UK &amp; Australian Approach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Encourages Student-Faculty Contact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Make it a point to talk with your students on a personal level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Learn about their educational and career plans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s 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eam effort than a solo race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Good learning, like good work is collaborative and social, not competitive and isolated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Working with others often increases involvement in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haring one’s ideas and responding to others’ reactions improves thinking and deepens understanding.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eginning with the first class have students participate in activities that encourage them to get to know each other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Abdirahman</cp:lastModifiedBy>
  <cp:lastPrinted>2007-10-04T11:43:09Z</cp:lastPrinted>
  <dcterms:modified xsi:type="dcterms:W3CDTF">2009-01-31T06:04:09Z</dcterms:modified>
  <cp:revision>450</cp:revision>
  <dc:subject/>
  <dc:title>Slide 1</dc:title>
</cp:coreProperties>
</file>