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F13-A488-4149-9C49-9C78571E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32A-076A-479E-875A-B5CEF277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E5E-3810-4214-8DED-13CBC25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E66-705C-407F-A0E8-B15747D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09C-F5C2-40AB-9868-607A09F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00F-8FF0-4314-9945-6AE9977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603-EB8D-4A23-9FB3-1E56EC4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D20-B3F9-4B68-984A-C3E2482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D90-4AFE-4EC7-8A89-0A1FDF8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F70-90FB-4993-B47B-13A2A94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C74-57F0-4442-A366-54D84EEC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064-1890-4B79-8B20-4F2170EB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e0e0e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e0e0e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86C-0D2B-4299-A45D-65F4577BDC1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3000" y="2469960"/>
            <a:ext cx="8534520" cy="95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 Successful  Graduate Student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y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5400" y="4019040"/>
            <a:ext cx="79135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  <a:ea typeface="Times New Roman"/>
              </a:rPr>
              <a:t>Salih Duffuaa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  <a:ea typeface="Times New Roman"/>
              </a:rPr>
              <a:t>Professor of Industrial Engineering and Operations Research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5520" y="214200"/>
            <a:ext cx="57625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5788080"/>
            <a:ext cx="80834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784160" cy="120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ifferent than undergraduate. How? Outcomes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vel of learning ( Blooms Taxonomy)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Knowledge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Comprehens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classify, describe, discuss, explain, express, identify, indicate, locate, recognize, report, restate, review, select, translate,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Applicat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pply, choose, demonstrate, dramatize, employ, illustrate, interpret, operate, practice, schedule, sketch, solve, use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naly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nalyze, appraise, calculate, categorize, compare, contrast, criticize, differentiate, discriminate, distinguish, examine, experiment, question, test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Synthe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valuation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ppraise, argue, assess, attach, choose compare, defend estimate, judge, predict, rate, core, select, support, value, evaluate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ifferent than undergraduate. How?  Research component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Thesi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Learn the research process.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y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contribute to knowledge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Dissertation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Perfect the research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Contribute to and advance knowledge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easure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3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 Graduate School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uccess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ompletion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ublication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raduate student satisfaction rate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raduate student per facult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 Student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egree cycle time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Number of publication per year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Job opportunitie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Understand requirements and expectations</a:t>
            </a: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Degree requirements.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Load requirements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Graduation requirements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Who can help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, university web)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Identify available resources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Laboratories 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Other departments offering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Library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Faculty interest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Who can help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)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Visible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epartment seminar 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epartment activities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Be available at and after working hours in the department 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Nothing replace this quality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Read mor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Know mor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o assignment on tim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Excite your professors ( Below expectation, as expected, more than expected)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Toleran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Be a good team player by tolerating colleagues 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o not be sensitive to faculty behavior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Tolerate additional assignment by the department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iving and office condition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ttend seminars and conference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epartmental and related department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ocal, regional and international conference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20680"/>
            <a:ext cx="8418600" cy="53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proactive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Identify your area of interest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ek a professor early 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ek additional work as a research assistant on projects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tart preparing for your thesis early ( Use summers)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Offer your help to the chairman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resent your work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Who can help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)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The research component in graduate study is the major difference between graduate and undergraduate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t is crucial to click into research by understanding the research process and bringing your brain power ( imagination intelligence, etc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At the beginning stages the role of the advisor is crucial.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Understanding the research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arn it early in graduate courses through term paper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mulation of answerable questions and achievable extension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erseverance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tart early on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cond semester or first summer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arn library and search skill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Write review paper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14000" y="1090080"/>
            <a:ext cx="7372440" cy="576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Nature of graduate School/ studie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Measures of succes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Elements of succes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Tips to be more successful.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Concluding remarks.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360" y="896760"/>
            <a:ext cx="80834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election of the advisor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Expertis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hemistr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election of the thesis/dissertation topic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lear objective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Realistic objectives : Answerable question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Managing the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Know the graduate school rules, regulations, deadlines and form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t weekly/monthly target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Meet weekly with the advisor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et feedback early on by discussing your work with the advisor and presenting it to the committee early on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ring a professional approach to your studies and interactions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Take workshops through the college of Graduate Studies’ Professional Development Initiative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Learn about research ethics and scholarly integrit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Attend conferenc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Join a research team or project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eek balance and support in your life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Remember that you have friends and family outside grad school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Seek out the many resources at UBC that can help you through the tough time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Remember that this will be among the most inspiring and satisfying times in your lif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And, because your mother isn’t here: “Get enough sleep, make time for physical exercise, and eat your healthy food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scussion and Questions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1960" y="775800"/>
            <a:ext cx="7861320" cy="129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Graduate School Versus Undergraduate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5760" y="1749240"/>
            <a:ext cx="4124160" cy="3708360"/>
          </a:xfrm>
          <a:prstGeom prst="rect">
            <a:avLst/>
          </a:prstGeom>
          <a:solidFill>
            <a:srgbClr val="a52f1b"/>
          </a:solidFill>
          <a:ln w="5076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The Undergraduat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26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Student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Breadth over depth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788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Recipient of knowledge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26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Externally directed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84160" y="1836360"/>
            <a:ext cx="4505400" cy="3809880"/>
          </a:xfrm>
          <a:prstGeom prst="rect">
            <a:avLst/>
          </a:prstGeom>
          <a:solidFill>
            <a:srgbClr val="cc9900"/>
          </a:solidFill>
          <a:ln w="50760">
            <a:solidFill>
              <a:srgbClr val="cc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The Graduat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From apprentice to expert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pth over breadth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Analyzer and creator of knowledge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Self-directed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11800"/>
            <a:ext cx="75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8840" y="92196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120" y="3282480"/>
            <a:ext cx="7711920" cy="29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understand thoroughly and think critically about   what is known in a particular academic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learn how to conduct research in that field (and perhaps prepare for PhD study)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begin affiliating with the academic community of 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1360" y="2181240"/>
            <a:ext cx="80881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research-oriented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thesis-based Master’s programs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MS, MA &amp; MSc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13600"/>
            <a:ext cx="714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</a:t>
            </a:r>
            <a:r>
              <a:rPr b="1" lang="en-US" sz="1800" spc="-1" strike="noStrike">
                <a:solidFill>
                  <a:srgbClr val="e0e0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9720" y="3230640"/>
            <a:ext cx="7931160" cy="31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understand thoroughly and think critically about what is known in a particular professional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ster skills (including research / experimentation) that are necessary for advanced practice in a particular professional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enhance affiliation with the professional community of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120" y="1960560"/>
            <a:ext cx="76341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professional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Masters programs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,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MEd, MEng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960200" y="8586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11800"/>
            <a:ext cx="7518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0720" y="2873160"/>
            <a:ext cx="778824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ster the knowledge of a specific academic field – and become prepared to teach that knowledge at the university level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ke an original contribution, through research, to the knowledge within a specific field (i.e. “create </a:t>
            </a:r>
            <a:r>
              <a:rPr b="0" lang="en-US" sz="2000" spc="-1" strike="noStrike" u="sng">
                <a:solidFill>
                  <a:srgbClr val="f7ffff"/>
                </a:solidFill>
                <a:uFillTx/>
                <a:latin typeface="Tahoma"/>
              </a:rPr>
              <a:t>new</a:t>
            </a: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 knowledge”)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establish oneself as an expert and leader within the academic community of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400" y="1998720"/>
            <a:ext cx="81122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Doctoral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study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PhD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60200" y="8586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84880"/>
            <a:ext cx="6734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 (GS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fferent than undergraduate. How? Personnel characteristics expect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Responsibl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otivation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 (GS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fferent than undergraduate. How? Personnel characteristics expect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discipline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magin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ifferent than undergraduate. How? Outcomes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vel of learning ( Blooms Taxonomy)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Knowledge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Comprehens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classify, describe, discuss, explain, express, identify, indicate, locate, recognize, report, restate, review, select, translate,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Applicat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pply, choose, demonstrate, dramatize, employ, illustrate, interpret, operate, practice, schedule, sketch, solve, use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naly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nalyze, appraise, calculate, categorize, compare, contrast, criticize, differentiate, discriminate, distinguish, examine, experiment, question, test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Synthe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valuation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ppraise, argue, assess, attach, choose compare, defend estimate, judge, predict, rate, core, select, support, value, evaluate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14:52:00Z</dcterms:created>
  <dc:creator>Mick Peters</dc:creator>
  <dc:description>Chapter 18 of Gaither</dc:description>
  <cp:keywords/>
  <dc:language>en-US</dc:language>
  <cp:lastModifiedBy>faculty</cp:lastModifiedBy>
  <cp:lastPrinted>1995-11-15T15:34:30Z</cp:lastPrinted>
  <dcterms:modified xsi:type="dcterms:W3CDTF">2008-11-23T17:46:54Z</dcterms:modified>
  <cp:revision>483</cp:revision>
  <dc:subject/>
  <dc:title>Quality Control</dc:title>
</cp:coreProperties>
</file>