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E50D-6B2F-4DC4-B6E9-2D0C69B0D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0F8E-89DD-4AC0-BBD6-8A4998C2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E9E4-3591-420A-9519-F6E7A426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9065-9799-4DB4-BB93-FF56D464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7185-C6A7-4777-A5D5-E1AE1792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3AAE-49E1-4D42-B197-E945A07B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9FD8-AF7C-476E-AC0D-BE929B29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6397-04F1-43BE-A2BE-00CA0C43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5255-FDEB-4C91-BB57-BD082663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70E9-FD90-4DC1-BFA5-D23C0CE6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C7D0-AA4C-4F1F-B306-0B61851B1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62AA-8C21-4D8C-B7C5-719F13444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17"/>
            </a:gs>
            <a:gs pos="50000">
              <a:srgbClr val="660033"/>
            </a:gs>
            <a:gs pos="100000">
              <a:srgbClr val="2f00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000c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c000c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e0e0e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e0e0e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4010-F5B6-47BE-B3ED-4BE0E86C70C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17"/>
            </a:gs>
            <a:gs pos="50000">
              <a:srgbClr val="660033"/>
            </a:gs>
            <a:gs pos="100000">
              <a:srgbClr val="2f00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33000" y="2469960"/>
            <a:ext cx="8534520" cy="95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A Successful  Graduate Student</a:t>
            </a:r>
            <a:br>
              <a:rPr sz="3600"/>
            </a:br>
            <a:br>
              <a:rPr sz="3600"/>
            </a:b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by 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5400" y="4019040"/>
            <a:ext cx="7913520" cy="124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fff"/>
                </a:solidFill>
                <a:latin typeface="Times New Roman"/>
                <a:ea typeface="Times New Roman"/>
              </a:rPr>
              <a:t>Salih Duffuaa</a:t>
            </a: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  <a:p>
            <a:pPr marL="308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fff"/>
                </a:solidFill>
                <a:latin typeface="Times New Roman"/>
                <a:ea typeface="Times New Roman"/>
              </a:rPr>
              <a:t>Professor of Industrial Engineering and Operations Research</a:t>
            </a: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95520" y="214200"/>
            <a:ext cx="5762520" cy="80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1040" y="5788080"/>
            <a:ext cx="80834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924360" y="549360"/>
            <a:ext cx="1784160" cy="1203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17"/>
            </a:gs>
            <a:gs pos="50000">
              <a:srgbClr val="660033"/>
            </a:gs>
            <a:gs pos="100000">
              <a:srgbClr val="2f00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Graduate School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Different than undergraduate. How? Outcomes: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Level of learning ( Blooms Taxonomy) 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7ffff"/>
                </a:solidFill>
                <a:latin typeface="Times New Roman"/>
              </a:rPr>
              <a:t>Knowledge</a:t>
            </a:r>
            <a:r>
              <a:rPr b="1" lang="en-US" sz="2000" spc="-1" strike="noStrike">
                <a:solidFill>
                  <a:srgbClr val="f7ffff"/>
                </a:solidFill>
                <a:latin typeface="Times New Roman"/>
              </a:rPr>
              <a:t>: arrange, define, duplicate, label, list, memorize, name, order, recognize, relate, recall, repeat, reproduce state. 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7ffff"/>
                </a:solidFill>
                <a:latin typeface="Times New Roman"/>
              </a:rPr>
              <a:t>Comprehension</a:t>
            </a:r>
            <a:r>
              <a:rPr b="1" lang="en-US" sz="2000" spc="-1" strike="noStrike">
                <a:solidFill>
                  <a:srgbClr val="f7ffff"/>
                </a:solidFill>
                <a:latin typeface="Times New Roman"/>
              </a:rPr>
              <a:t>: classify, describe, discuss, explain, express, identify, indicate, locate, recognize, report, restate, review, select, translate, 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7ffff"/>
                </a:solidFill>
                <a:latin typeface="Times New Roman"/>
              </a:rPr>
              <a:t>Application</a:t>
            </a:r>
            <a:r>
              <a:rPr b="1" lang="en-US" sz="2000" spc="-1" strike="noStrike">
                <a:solidFill>
                  <a:srgbClr val="f7ffff"/>
                </a:solidFill>
                <a:latin typeface="Times New Roman"/>
              </a:rPr>
              <a:t>: apply, choose, demonstrate, dramatize, employ, illustrate, interpret, operate, practice, schedule, sketch, solve, use, write. 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Analysis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: analyze, appraise, calculate, categorize, compare, contrast, criticize, differentiate, discriminate, distinguish, examine, experiment, question, test. 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Synthesis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: arrange, assemble, collect, compose, construct, create, design, develop, formulate, manage, organize, plan, prepare, propose, set up, write. 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Evaluation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: appraise, argue, assess, attach, choose compare, defend estimate, judge, predict, rate, core, select, support, value, evaluate.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17"/>
            </a:gs>
            <a:gs pos="50000">
              <a:srgbClr val="660033"/>
            </a:gs>
            <a:gs pos="100000">
              <a:srgbClr val="2f00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Graduate School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Different than undergraduate. How?  Research component</a:t>
            </a:r>
            <a:r>
              <a:rPr b="1" lang="en-US" sz="3200" spc="-1" strike="noStrike">
                <a:solidFill>
                  <a:srgbClr val="f7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7ffff"/>
                </a:solidFill>
                <a:latin typeface="Times New Roman"/>
              </a:rPr>
              <a:t>Thesis</a:t>
            </a: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7ffff"/>
                </a:solidFill>
                <a:latin typeface="Times New Roman"/>
              </a:rPr>
              <a:t>Learn the research process.</a:t>
            </a: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ay</a:t>
            </a:r>
            <a:r>
              <a:rPr b="1" lang="en-US" sz="3200" spc="-1" strike="noStrike">
                <a:solidFill>
                  <a:srgbClr val="f7ffff"/>
                </a:solidFill>
                <a:latin typeface="Times New Roman"/>
              </a:rPr>
              <a:t> contribute to knowledge</a:t>
            </a: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7ffff"/>
                </a:solidFill>
                <a:latin typeface="Times New Roman"/>
              </a:rPr>
              <a:t>Dissertation</a:t>
            </a: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7ffff"/>
                </a:solidFill>
                <a:latin typeface="Times New Roman"/>
              </a:rPr>
              <a:t>Perfect the research process</a:t>
            </a: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7ffff"/>
                </a:solidFill>
                <a:latin typeface="Times New Roman"/>
              </a:rPr>
              <a:t>Contribute to and advance knowledge</a:t>
            </a: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17"/>
            </a:gs>
            <a:gs pos="50000">
              <a:srgbClr val="660033"/>
            </a:gs>
            <a:gs pos="100000">
              <a:srgbClr val="2f00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Measures of success in GS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18800"/>
            <a:ext cx="8229600" cy="53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For Graduate School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Success rate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Completion rate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Publication rate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Graduate student satisfaction rate 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Graduate student per faculty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For Students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Degree cycle time.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Number of publication per year.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Job opportunities. 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17"/>
            </a:gs>
            <a:gs pos="50000">
              <a:srgbClr val="660033"/>
            </a:gs>
            <a:gs pos="100000">
              <a:srgbClr val="2f00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Elements of Success in GS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Understand requirements and expectations</a:t>
            </a:r>
            <a:r>
              <a:rPr b="0" lang="en-US" sz="2800" spc="-1" strike="noStrike">
                <a:solidFill>
                  <a:srgbClr val="f7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7ffff"/>
                </a:solidFill>
                <a:latin typeface="Times New Roman"/>
              </a:rPr>
              <a:t>Degree requirements. 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fff"/>
                </a:solidFill>
                <a:latin typeface="Times New Roman"/>
              </a:rPr>
              <a:t>Load requirements.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7ffff"/>
                </a:solidFill>
                <a:latin typeface="Times New Roman"/>
              </a:rPr>
              <a:t>Graduation requirements.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fff"/>
                </a:solidFill>
                <a:latin typeface="Times New Roman"/>
              </a:rPr>
              <a:t>Who can help</a:t>
            </a: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fff"/>
                </a:solidFill>
                <a:latin typeface="Times New Roman"/>
              </a:rPr>
              <a:t>( Graduate Advisor, chairman, faculty members, senior colleagues, university web)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17"/>
            </a:gs>
            <a:gs pos="50000">
              <a:srgbClr val="660033"/>
            </a:gs>
            <a:gs pos="100000">
              <a:srgbClr val="2f00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Elements of Success in GS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18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Identify available resources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fff"/>
                </a:solidFill>
                <a:latin typeface="Times New Roman"/>
              </a:rPr>
              <a:t>Laboratories . 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fff"/>
                </a:solidFill>
                <a:latin typeface="Times New Roman"/>
              </a:rPr>
              <a:t>Other departments offering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fff"/>
                </a:solidFill>
                <a:latin typeface="Times New Roman"/>
              </a:rPr>
              <a:t>Library.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fff"/>
                </a:solidFill>
                <a:latin typeface="Times New Roman"/>
              </a:rPr>
              <a:t>Faculty interest.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Who can help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fff"/>
                </a:solidFill>
                <a:latin typeface="Times New Roman"/>
              </a:rPr>
              <a:t>( Graduate Advisor, chairman, faculty members, senior colleagues)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17"/>
            </a:gs>
            <a:gs pos="50000">
              <a:srgbClr val="660033"/>
            </a:gs>
            <a:gs pos="100000">
              <a:srgbClr val="2f00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Elements of Success in GS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18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Be Visible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ffff"/>
                </a:solidFill>
                <a:latin typeface="Times New Roman"/>
              </a:rPr>
              <a:t>Department seminar . 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7ffff"/>
                </a:solidFill>
                <a:latin typeface="Times New Roman"/>
              </a:rPr>
              <a:t>Department activities.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ffff"/>
                </a:solidFill>
                <a:latin typeface="Times New Roman"/>
              </a:rPr>
              <a:t>Be available at and after working hours in the department .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Hard work</a:t>
            </a: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7ffff"/>
                </a:solidFill>
                <a:latin typeface="Times New Roman"/>
              </a:rPr>
              <a:t>Nothing replace this quality.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7ffff"/>
                </a:solidFill>
                <a:latin typeface="Times New Roman"/>
              </a:rPr>
              <a:t>Read more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7ffff"/>
                </a:solidFill>
                <a:latin typeface="Times New Roman"/>
              </a:rPr>
              <a:t>Know more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7ffff"/>
                </a:solidFill>
                <a:latin typeface="Times New Roman"/>
              </a:rPr>
              <a:t>Do assignment on time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7ffff"/>
                </a:solidFill>
                <a:latin typeface="Times New Roman"/>
              </a:rPr>
              <a:t>Excite your professors ( Below expectation, as expected, more than expected).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17"/>
            </a:gs>
            <a:gs pos="50000">
              <a:srgbClr val="660033"/>
            </a:gs>
            <a:gs pos="100000">
              <a:srgbClr val="2f00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Elements of Success in GS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18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Be Tolerant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Be a good team player by tolerating colleagues . 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Do not be sensitive to faculty behavior.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Tolerate additional assignment by the department.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Living and office conditions. 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Attend seminars and conferences</a:t>
            </a: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Departmental and related departments.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Local, regional and international conferences.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17"/>
            </a:gs>
            <a:gs pos="50000">
              <a:srgbClr val="660033"/>
            </a:gs>
            <a:gs pos="100000">
              <a:srgbClr val="2f00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Elements of Success in GS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120680"/>
            <a:ext cx="8418600" cy="539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Be proactive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Identify your area of interest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Seek a professor early .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Seek additional work as a research assistant on projects 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Start preparing for your thesis early ( Use summers).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Offer your help to the chairman.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Present your work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Who can help</a:t>
            </a: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fff"/>
                </a:solidFill>
                <a:latin typeface="Times New Roman"/>
              </a:rPr>
              <a:t>( Graduate Advisor, chairman, faculty members, senior colleagues)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17"/>
            </a:gs>
            <a:gs pos="50000">
              <a:srgbClr val="660033"/>
            </a:gs>
            <a:gs pos="100000">
              <a:srgbClr val="2f00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Success in research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4470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fff"/>
                </a:solidFill>
                <a:latin typeface="Times New Roman"/>
              </a:rPr>
              <a:t>The research component in graduate study is the major difference between graduate and undergraduate.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fff"/>
                </a:solidFill>
                <a:latin typeface="Times New Roman"/>
              </a:rPr>
              <a:t>It is crucial to click into research by understanding the research process and bringing your brain power ( imagination intelligence, etc.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fff"/>
                </a:solidFill>
                <a:latin typeface="Times New Roman"/>
              </a:rPr>
              <a:t>At the beginning stages the role of the advisor is crucial. 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17"/>
            </a:gs>
            <a:gs pos="50000">
              <a:srgbClr val="660033"/>
            </a:gs>
            <a:gs pos="100000">
              <a:srgbClr val="2f00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Success in Research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Understanding the research process</a:t>
            </a: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Learn it early in graduate courses through term papers.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Formulation of answerable questions and achievable extensions. 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Perseverance 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Start early on:</a:t>
            </a: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Second semester or first summer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Learn library and search skills.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Write review papers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17"/>
            </a:gs>
            <a:gs pos="50000">
              <a:srgbClr val="660033"/>
            </a:gs>
            <a:gs pos="100000">
              <a:srgbClr val="2f00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Outline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14000" y="1090080"/>
            <a:ext cx="7372440" cy="576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ffff"/>
                </a:solidFill>
                <a:latin typeface="Times New Roman"/>
              </a:rPr>
              <a:t>Nature of graduate School/ studies</a:t>
            </a:r>
            <a:endParaRPr b="0" lang="en-US" sz="36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ffff"/>
                </a:solidFill>
                <a:latin typeface="Times New Roman"/>
              </a:rPr>
              <a:t>Measures of success</a:t>
            </a:r>
            <a:endParaRPr b="0" lang="en-US" sz="36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7ffff"/>
                </a:solidFill>
                <a:latin typeface="Times New Roman"/>
              </a:rPr>
              <a:t>Elements of success</a:t>
            </a:r>
            <a:endParaRPr b="0" lang="en-US" sz="36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ffff"/>
                </a:solidFill>
                <a:latin typeface="Times New Roman"/>
              </a:rPr>
              <a:t>Tips to be more successful.</a:t>
            </a:r>
            <a:endParaRPr b="0" lang="en-US" sz="36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7ffff"/>
                </a:solidFill>
                <a:latin typeface="Times New Roman"/>
              </a:rPr>
              <a:t>Concluding remarks.</a:t>
            </a:r>
            <a:endParaRPr b="0" lang="en-US" sz="36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2360" y="896760"/>
            <a:ext cx="808344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17"/>
            </a:gs>
            <a:gs pos="50000">
              <a:srgbClr val="660033"/>
            </a:gs>
            <a:gs pos="100000">
              <a:srgbClr val="2f00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Success in Research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Selection of the advisor</a:t>
            </a: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Expertise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Chemistry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Interest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Selection of the thesis/dissertation topic</a:t>
            </a: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Clear objectives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Realistic objectives : Answerable questions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17"/>
            </a:gs>
            <a:gs pos="50000">
              <a:srgbClr val="660033"/>
            </a:gs>
            <a:gs pos="100000">
              <a:srgbClr val="2f00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Success in Research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Managing the process</a:t>
            </a: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Know the graduate school rules, regulations, deadlines and forms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Set weekly/monthly targets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Meet weekly with the advisor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Get feedback early on by discussing your work with the advisor and presenting it to the committee early on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17"/>
            </a:gs>
            <a:gs pos="50000">
              <a:srgbClr val="660033"/>
            </a:gs>
            <a:gs pos="100000">
              <a:srgbClr val="2f00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Success in Research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Bring a professional approach to your studies and interactions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Aft>
                <a:spcPts val="1800"/>
              </a:spcAft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fff"/>
                </a:solidFill>
                <a:latin typeface="Tahoma"/>
              </a:rPr>
              <a:t>Take workshops through the college of Graduate Studies’ Professional Development Initiative. 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Aft>
                <a:spcPts val="1800"/>
              </a:spcAft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fff"/>
                </a:solidFill>
                <a:latin typeface="Tahoma"/>
              </a:rPr>
              <a:t>Learn about research ethics and scholarly integrity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Aft>
                <a:spcPts val="1800"/>
              </a:spcAft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7ffff"/>
                </a:solidFill>
                <a:latin typeface="Tahoma"/>
              </a:rPr>
              <a:t>Attend conference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0e0e0"/>
                </a:solidFill>
                <a:latin typeface="Times New Roman"/>
                <a:ea typeface="Times New Roman"/>
              </a:rPr>
              <a:t>Join a research team or project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0">
              <a:lnSpc>
                <a:spcPct val="105000"/>
              </a:lnSpc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17"/>
            </a:gs>
            <a:gs pos="50000">
              <a:srgbClr val="660033"/>
            </a:gs>
            <a:gs pos="100000">
              <a:srgbClr val="2f00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Success in Research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Seek balance and support in your life:</a:t>
            </a: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ahoma"/>
              </a:rPr>
              <a:t>Remember that you have friends and family outside grad school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ahoma"/>
              </a:rPr>
              <a:t>Seek out the many resources at UBC that can help you through the tough times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ahoma"/>
              </a:rPr>
              <a:t>Remember that this will be among the most inspiring and satisfying times in your life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ahoma"/>
              </a:rPr>
              <a:t>And, because your mother isn’t here: “Get enough sleep, make time for physical exercise, and eat your healthy food.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0">
              <a:lnSpc>
                <a:spcPct val="105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17"/>
            </a:gs>
            <a:gs pos="50000">
              <a:srgbClr val="660033"/>
            </a:gs>
            <a:gs pos="100000">
              <a:srgbClr val="2f00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7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Discussion and Questions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17"/>
            </a:gs>
            <a:gs pos="50000">
              <a:srgbClr val="660033"/>
            </a:gs>
            <a:gs pos="100000">
              <a:srgbClr val="2f00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21960" y="775800"/>
            <a:ext cx="7861320" cy="129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Graduate School Versus Undergraduate 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85760" y="1749240"/>
            <a:ext cx="4124160" cy="3708360"/>
          </a:xfrm>
          <a:prstGeom prst="rect">
            <a:avLst/>
          </a:prstGeom>
          <a:solidFill>
            <a:srgbClr val="a52f1b"/>
          </a:solidFill>
          <a:ln w="5076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Tahoma"/>
              </a:rPr>
              <a:t>The Undergraduate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524"/>
              </a:spcBef>
              <a:spcAft>
                <a:spcPts val="264"/>
              </a:spcAft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ahoma"/>
              </a:rPr>
              <a:t>Student</a:t>
            </a:r>
            <a:endParaRPr b="0" lang="en-US" sz="21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524"/>
              </a:spcBef>
              <a:spcAft>
                <a:spcPts val="524"/>
              </a:spcAft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ahoma"/>
              </a:rPr>
              <a:t>Breadth over depth</a:t>
            </a:r>
            <a:endParaRPr b="0" lang="en-US" sz="21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524"/>
              </a:spcBef>
              <a:spcAft>
                <a:spcPts val="788"/>
              </a:spcAft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ahoma"/>
              </a:rPr>
              <a:t>Recipient of knowledge</a:t>
            </a:r>
            <a:endParaRPr b="0" lang="en-US" sz="21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524"/>
              </a:spcBef>
              <a:spcAft>
                <a:spcPts val="264"/>
              </a:spcAft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ahoma"/>
              </a:rPr>
              <a:t>Externally directed</a:t>
            </a:r>
            <a:endParaRPr b="0" lang="en-US" sz="21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484160" y="1836360"/>
            <a:ext cx="4505400" cy="3809880"/>
          </a:xfrm>
          <a:prstGeom prst="rect">
            <a:avLst/>
          </a:prstGeom>
          <a:solidFill>
            <a:srgbClr val="cc9900"/>
          </a:solidFill>
          <a:ln w="50760">
            <a:solidFill>
              <a:srgbClr val="cc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Tahoma"/>
              </a:rPr>
              <a:t>The Graduate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524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ahoma"/>
              </a:rPr>
              <a:t>From apprentice to expert</a:t>
            </a:r>
            <a:endParaRPr b="0" lang="en-US" sz="21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524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ahoma"/>
              </a:rPr>
              <a:t>Depth over breadth</a:t>
            </a:r>
            <a:endParaRPr b="0" lang="en-US" sz="21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ahoma"/>
              </a:rPr>
              <a:t>Analyzer and creator of knowledge</a:t>
            </a:r>
            <a:endParaRPr b="0" lang="en-US" sz="21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524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ahoma"/>
              </a:rPr>
              <a:t>Self-directed</a:t>
            </a:r>
            <a:endParaRPr b="0" lang="en-US" sz="21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211800"/>
            <a:ext cx="753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0e0e0"/>
                </a:solidFill>
                <a:latin typeface="Arial"/>
              </a:rPr>
              <a:t>Source of this slide is : University of British Columbia Web Site.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17"/>
            </a:gs>
            <a:gs pos="50000">
              <a:srgbClr val="660033"/>
            </a:gs>
            <a:gs pos="100000">
              <a:srgbClr val="2f00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8840" y="92196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What is the Purpose of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Graduate Study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08120" y="3282480"/>
            <a:ext cx="7711920" cy="298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5000"/>
              </a:lnSpc>
              <a:spcBef>
                <a:spcPts val="2001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ffff"/>
                </a:solidFill>
                <a:latin typeface="Tahoma"/>
              </a:rPr>
              <a:t>To understand thoroughly and think critically about   what is known in a particular academic field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01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ffff"/>
                </a:solidFill>
                <a:latin typeface="Tahoma"/>
              </a:rPr>
              <a:t>To learn how to conduct research in that field (and perhaps prepare for PhD study)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01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ffff"/>
                </a:solidFill>
                <a:latin typeface="Tahoma"/>
              </a:rPr>
              <a:t>To begin affiliating with the academic community of  the field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1360" y="2181240"/>
            <a:ext cx="808812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The primary purposes of </a:t>
            </a:r>
            <a:r>
              <a:rPr b="1" lang="en-US" sz="2400" spc="-1" strike="noStrike" u="sng">
                <a:solidFill>
                  <a:srgbClr val="00ff00"/>
                </a:solidFill>
                <a:uFillTx/>
                <a:latin typeface="Tahoma"/>
              </a:rPr>
              <a:t>research-oriented</a:t>
            </a: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, thesis-based Master’s programs (</a:t>
            </a:r>
            <a:r>
              <a:rPr b="1" i="1" lang="en-US" sz="2400" spc="-1" strike="noStrike">
                <a:solidFill>
                  <a:srgbClr val="00ff00"/>
                </a:solidFill>
                <a:latin typeface="Tahoma"/>
              </a:rPr>
              <a:t>e.g.</a:t>
            </a: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, MS, MA &amp; MSc) are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213600"/>
            <a:ext cx="7140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0e0e0"/>
                </a:solidFill>
                <a:latin typeface="Arial"/>
              </a:rPr>
              <a:t>Source of this slide is : University of British Columbia Web Site</a:t>
            </a:r>
            <a:r>
              <a:rPr b="1" lang="en-US" sz="1800" spc="-1" strike="noStrike">
                <a:solidFill>
                  <a:srgbClr val="e0e0e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17"/>
            </a:gs>
            <a:gs pos="50000">
              <a:srgbClr val="660033"/>
            </a:gs>
            <a:gs pos="100000">
              <a:srgbClr val="2f00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29720" y="3230640"/>
            <a:ext cx="7931160" cy="31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5680" indent="-355680">
              <a:lnSpc>
                <a:spcPct val="105000"/>
              </a:lnSpc>
              <a:spcAft>
                <a:spcPts val="1500"/>
              </a:spcAft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ffff"/>
                </a:solidFill>
                <a:latin typeface="Tahoma"/>
              </a:rPr>
              <a:t>To understand thoroughly and think critically about what is known in a particular professional field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marL="355680" indent="-355680">
              <a:lnSpc>
                <a:spcPct val="105000"/>
              </a:lnSpc>
              <a:spcAft>
                <a:spcPts val="1500"/>
              </a:spcAft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ffff"/>
                </a:solidFill>
                <a:latin typeface="Tahoma"/>
              </a:rPr>
              <a:t>To master skills (including research / experimentation) that are necessary for advanced practice in a particular professional field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marL="355680" indent="-355680">
              <a:lnSpc>
                <a:spcPct val="105000"/>
              </a:lnSpc>
              <a:spcAft>
                <a:spcPts val="1500"/>
              </a:spcAft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ffff"/>
                </a:solidFill>
                <a:latin typeface="Tahoma"/>
              </a:rPr>
              <a:t>To enhance affiliation with the professional community of the field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8120" y="1960560"/>
            <a:ext cx="763416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The primary purposes of </a:t>
            </a:r>
            <a:r>
              <a:rPr b="1" lang="en-US" sz="2400" spc="-1" strike="noStrike" u="sng">
                <a:solidFill>
                  <a:srgbClr val="00ff00"/>
                </a:solidFill>
                <a:uFillTx/>
                <a:latin typeface="Tahoma"/>
              </a:rPr>
              <a:t>professional</a:t>
            </a: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 Masters programs (</a:t>
            </a:r>
            <a:r>
              <a:rPr b="1" i="1" lang="en-US" sz="2400" spc="-1" strike="noStrike">
                <a:solidFill>
                  <a:srgbClr val="00ff00"/>
                </a:solidFill>
                <a:latin typeface="Tahoma"/>
              </a:rPr>
              <a:t>e.g.,</a:t>
            </a: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 MEd, MEng) are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960200" y="85860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ahoma"/>
              </a:rPr>
              <a:t>What is the Purpose of </a:t>
            </a:r>
            <a:br>
              <a:rPr sz="2400"/>
            </a:br>
            <a:r>
              <a:rPr b="0" lang="en-US" sz="2400" spc="-1" strike="noStrike">
                <a:solidFill>
                  <a:srgbClr val="969696"/>
                </a:solidFill>
                <a:latin typeface="Tahoma"/>
              </a:rPr>
              <a:t>Graduate Study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211800"/>
            <a:ext cx="75182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0e0e0"/>
                </a:solidFill>
                <a:latin typeface="Arial"/>
              </a:rPr>
              <a:t>Source of this slide is : University of British Columbia Web Site.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17"/>
            </a:gs>
            <a:gs pos="50000">
              <a:srgbClr val="660033"/>
            </a:gs>
            <a:gs pos="100000">
              <a:srgbClr val="2f00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20720" y="2873160"/>
            <a:ext cx="7788240" cy="36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5000"/>
              </a:lnSpc>
              <a:spcAft>
                <a:spcPts val="1500"/>
              </a:spcAft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ffff"/>
                </a:solidFill>
                <a:latin typeface="Tahoma"/>
              </a:rPr>
              <a:t>To master the knowledge of a specific academic field – and become prepared to teach that knowledge at the university level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Aft>
                <a:spcPts val="1500"/>
              </a:spcAft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ffff"/>
                </a:solidFill>
                <a:latin typeface="Tahoma"/>
              </a:rPr>
              <a:t>To make an original contribution, through research, to the knowledge within a specific field (i.e. “create </a:t>
            </a:r>
            <a:r>
              <a:rPr b="0" lang="en-US" sz="2000" spc="-1" strike="noStrike" u="sng">
                <a:solidFill>
                  <a:srgbClr val="f7ffff"/>
                </a:solidFill>
                <a:uFillTx/>
                <a:latin typeface="Tahoma"/>
              </a:rPr>
              <a:t>new</a:t>
            </a:r>
            <a:r>
              <a:rPr b="0" lang="en-US" sz="2000" spc="-1" strike="noStrike">
                <a:solidFill>
                  <a:srgbClr val="f7ffff"/>
                </a:solidFill>
                <a:latin typeface="Tahoma"/>
              </a:rPr>
              <a:t> knowledge”) 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Aft>
                <a:spcPts val="1500"/>
              </a:spcAft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ffff"/>
                </a:solidFill>
                <a:latin typeface="Tahoma"/>
              </a:rPr>
              <a:t>To establish oneself as an expert and leader within the academic community of the field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8400" y="1998720"/>
            <a:ext cx="811224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The primary purposes of </a:t>
            </a:r>
            <a:r>
              <a:rPr b="1" lang="en-US" sz="2400" spc="-1" strike="noStrike" u="sng">
                <a:solidFill>
                  <a:srgbClr val="00ff00"/>
                </a:solidFill>
                <a:uFillTx/>
                <a:latin typeface="Tahoma"/>
              </a:rPr>
              <a:t>Doctoral</a:t>
            </a: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 study (</a:t>
            </a:r>
            <a:r>
              <a:rPr b="1" i="1" lang="en-US" sz="2400" spc="-1" strike="noStrike">
                <a:solidFill>
                  <a:srgbClr val="00ff00"/>
                </a:solidFill>
                <a:latin typeface="Tahoma"/>
              </a:rPr>
              <a:t>e.g.</a:t>
            </a: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, PhD) are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960200" y="85860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ahoma"/>
              </a:rPr>
              <a:t>What is the Purpose of </a:t>
            </a:r>
            <a:br>
              <a:rPr sz="2400"/>
            </a:br>
            <a:r>
              <a:rPr b="0" lang="en-US" sz="2400" spc="-1" strike="noStrike">
                <a:solidFill>
                  <a:srgbClr val="969696"/>
                </a:solidFill>
                <a:latin typeface="Tahoma"/>
              </a:rPr>
              <a:t>Graduate Study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284880"/>
            <a:ext cx="6734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0e0e0"/>
                </a:solidFill>
                <a:latin typeface="Arial"/>
              </a:rPr>
              <a:t>Source of this slide: University of British Columbia Web Site.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17"/>
            </a:gs>
            <a:gs pos="50000">
              <a:srgbClr val="660033"/>
            </a:gs>
            <a:gs pos="100000">
              <a:srgbClr val="2f00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Graduate School (GS)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Different than undergraduate. How? Personnel characteristics expectation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7ffff"/>
                </a:solidFill>
                <a:latin typeface="Times New Roman"/>
              </a:rPr>
              <a:t>Maturity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7ffff"/>
                </a:solidFill>
                <a:latin typeface="Times New Roman"/>
              </a:rPr>
              <a:t>Responsible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7ffff"/>
                </a:solidFill>
                <a:latin typeface="Times New Roman"/>
              </a:rPr>
              <a:t>Independence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7ffff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otivation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17"/>
            </a:gs>
            <a:gs pos="50000">
              <a:srgbClr val="660033"/>
            </a:gs>
            <a:gs pos="100000">
              <a:srgbClr val="2f00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Graduate School (GS)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Different than undergraduate. How? Personnel characteristics expectation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fff"/>
                </a:solidFill>
                <a:latin typeface="Times New Roman"/>
              </a:rPr>
              <a:t>discipline 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fff"/>
                </a:solidFill>
                <a:latin typeface="Times New Roman"/>
              </a:rPr>
              <a:t>Enthusiasm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7ffff"/>
                </a:solidFill>
                <a:latin typeface="Times New Roman"/>
              </a:rPr>
              <a:t>Perseverance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7ffff"/>
                </a:solidFill>
                <a:latin typeface="Times New Roman"/>
              </a:rPr>
              <a:t>Imagination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7ffff"/>
                </a:solidFill>
                <a:latin typeface="Times New Roman"/>
              </a:rPr>
              <a:t>Creativity</a:t>
            </a: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0017"/>
            </a:gs>
            <a:gs pos="50000">
              <a:srgbClr val="660033"/>
            </a:gs>
            <a:gs pos="100000">
              <a:srgbClr val="2f00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95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Graduate School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Different than undergraduate. How? Outcomes: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Level of learning ( Blooms Taxonomy) </a:t>
            </a:r>
            <a:endParaRPr b="0" lang="en-US" sz="2400" spc="-1" strike="noStrike">
              <a:solidFill>
                <a:srgbClr val="f7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7ffff"/>
                </a:solidFill>
                <a:latin typeface="Times New Roman"/>
              </a:rPr>
              <a:t>Knowledge</a:t>
            </a:r>
            <a:r>
              <a:rPr b="1" lang="en-US" sz="2000" spc="-1" strike="noStrike">
                <a:solidFill>
                  <a:srgbClr val="f7ffff"/>
                </a:solidFill>
                <a:latin typeface="Times New Roman"/>
              </a:rPr>
              <a:t>: arrange, define, duplicate, label, list, memorize, name, order, recognize, relate, recall, repeat, reproduce state. 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7ffff"/>
                </a:solidFill>
                <a:latin typeface="Times New Roman"/>
              </a:rPr>
              <a:t>Comprehension</a:t>
            </a:r>
            <a:r>
              <a:rPr b="1" lang="en-US" sz="2000" spc="-1" strike="noStrike">
                <a:solidFill>
                  <a:srgbClr val="f7ffff"/>
                </a:solidFill>
                <a:latin typeface="Times New Roman"/>
              </a:rPr>
              <a:t>: classify, describe, discuss, explain, express, identify, indicate, locate, recognize, report, restate, review, select, translate, 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7ffff"/>
                </a:solidFill>
                <a:latin typeface="Times New Roman"/>
              </a:rPr>
              <a:t>Application</a:t>
            </a:r>
            <a:r>
              <a:rPr b="1" lang="en-US" sz="2000" spc="-1" strike="noStrike">
                <a:solidFill>
                  <a:srgbClr val="f7ffff"/>
                </a:solidFill>
                <a:latin typeface="Times New Roman"/>
              </a:rPr>
              <a:t>: apply, choose, demonstrate, dramatize, employ, illustrate, interpret, operate, practice, schedule, sketch, solve, use, write. 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Analysis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: analyze, appraise, calculate, categorize, compare, contrast, criticize, differentiate, discriminate, distinguish, examine, experiment, question, test. 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Synthesis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: arrange, assemble, collect, compose, construct, create, design, develop, formulate, manage, organize, plan, prepare, propose, set up, write. 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Evaluation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: appraise, argue, assess, attach, choose compare, defend estimate, judge, predict, rate, core, select, support, value, evaluate.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7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4T14:52:00Z</dcterms:created>
  <dc:creator>Mick Peters</dc:creator>
  <dc:description>Chapter 18 of Gaither</dc:description>
  <cp:keywords/>
  <dc:language>en-US</dc:language>
  <cp:lastModifiedBy>faculty</cp:lastModifiedBy>
  <cp:lastPrinted>1995-11-15T15:34:30Z</cp:lastPrinted>
  <dcterms:modified xsi:type="dcterms:W3CDTF">2008-11-23T17:46:54Z</dcterms:modified>
  <cp:revision>483</cp:revision>
  <dc:subject/>
  <dc:title>Quality Control</dc:title>
</cp:coreProperties>
</file>