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604-C145-4C3E-BE96-2B829948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0C9-A8FE-4A0D-8935-16D31D7E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EBD-9621-48C4-88C5-36C1E387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A46-E493-4C77-AEAA-F15F1089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48F-A42F-431E-B9AA-8E7B07A4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B26-B584-4C14-A0EC-36E019DB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616-B811-4999-8163-B9D09F9E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823-EF64-48D6-8254-E9A0512A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EDE-C9DE-4E14-9881-CE3C8C6D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3EC-63C9-499C-B3F9-E7FFBF2A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EC1-1560-4BC1-B3B0-65CAB292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5E8-3108-4CA0-A933-257DCE29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14EC-126B-4DEA-8428-D0349291DE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A37A5D-81C7-4035-B51E-4AEEF72A4F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anship of Graduate Studies - KFU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320B-7012-4F30-B795-20EE6A88DEF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pperplate Gothic Bold"/>
              </a:rPr>
              <a:t>Welcome to KFU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838080" y="3886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Rules and Regulations of Gradu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EBFB-F16E-4D1C-9890-A8ABCE60916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706E-9DB8-4148-AEAF-D700E724AE39}" type="datetime">
              <a:rPr b="0" lang="en-US" sz="1400" spc="-1" strike="noStrike">
                <a:solidFill>
                  <a:srgbClr val="17375e"/>
                </a:solidFill>
                <a:latin typeface="Calibri"/>
              </a:rPr>
              <a:t>07/29/26</a:t>
            </a:fld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 </a:t>
            </a:r>
            <a:fld id="{2A7991CC-6E4B-47CC-810C-34B67D1BCF48}" type="datetime12">
              <a:rPr b="0" lang="en-US" sz="1400" spc="-1" strike="noStrike">
                <a:solidFill>
                  <a:srgbClr val="17375e"/>
                </a:solidFill>
                <a:latin typeface="Calibri"/>
              </a:rPr>
              <a:t>07:18 P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low of Academic 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8EE4-1F30-44CB-BFB7-CD208B406E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D951-A36B-4B1B-AE6F-E6B9CE3CBC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AF0B2D-8305-40BD-9F60-D3C503C2E4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lowchart: Process 6"/>
          <p:cNvSpPr/>
          <p:nvPr/>
        </p:nvSpPr>
        <p:spPr>
          <a:xfrm>
            <a:off x="3124080" y="243828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udent (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niti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lowchart: Process 8"/>
          <p:cNvSpPr/>
          <p:nvPr/>
        </p:nvSpPr>
        <p:spPr>
          <a:xfrm>
            <a:off x="3124080" y="3276720"/>
            <a:ext cx="2590920" cy="5331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partment’s Graduate Coordinator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owchart: Process 9"/>
          <p:cNvSpPr/>
          <p:nvPr/>
        </p:nvSpPr>
        <p:spPr>
          <a:xfrm>
            <a:off x="3124080" y="480060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an of Graduate Studies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Final 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Process 10"/>
          <p:cNvSpPr/>
          <p:nvPr/>
        </p:nvSpPr>
        <p:spPr>
          <a:xfrm>
            <a:off x="3124080" y="403848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partment Chairman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Process 11"/>
          <p:cNvSpPr/>
          <p:nvPr/>
        </p:nvSpPr>
        <p:spPr>
          <a:xfrm>
            <a:off x="3124080" y="5562720"/>
            <a:ext cx="2590920" cy="5331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r (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Proper Ac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13"/>
          <p:cNvCxnSpPr/>
          <p:nvPr/>
        </p:nvCxnSpPr>
        <p:spPr>
          <a:xfrm flipH="1">
            <a:off x="4419360" y="2971440"/>
            <a:ext cx="2160" cy="30564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2" name="Straight Arrow Connector 15"/>
          <p:cNvCxnSpPr/>
          <p:nvPr/>
        </p:nvCxnSpPr>
        <p:spPr>
          <a:xfrm flipH="1">
            <a:off x="4419360" y="380952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4419360" y="457164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4419360" y="533376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</p:spTree>
  </p:cSld>
  <p:transition>
    <p:strips dir="ru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rovisional &amp; Regular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85800" y="23623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admitted with academic deficiencies is referred to a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VISIONAL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cademic deficiencies could b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, GMAT, TOEFL, Deficiency Courses, GPA in first 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fulfill these deficiencies within the first semester of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changed into Regular within first semester, students will be held from registration in the Early Registration and next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F717-6CBE-43F0-BFFD-5A37D96DAC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D866-EA8C-4D0B-AD37-A4DE34DDF1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3AD861-9384-4FF9-A941-9CFA5742A4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emoval of Provisional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B9A1-FE1F-4B9E-AA26-F0EB20FB62E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58E1-AEFC-4FAB-8486-8628BF964D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A1E8A0-2556-45AB-8681-088965C725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85800" y="26668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use the academic petition form when they have fulfilled the academic defici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ch a petition is approved, the student will becom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regular 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</a:rPr>
              <a:t>Hold L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09480" y="24382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st prepared twice every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names of students who are still on Provision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students should arrange to remove the names from the list by changing into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failing to do so will be put on registration hold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not be 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gister for the forthcoming seme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7683-9A37-4E92-A248-C31224BAE85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4BBE-5E2F-47C4-8D4B-C453D4BA9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99CD2A-96DF-4C28-89C7-D25138DEE8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</a:rPr>
              <a:t>Degree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85800" y="254952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available on DGS website in excel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oadmap for earning a deg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what a student has achieved and what is still needed for completing the degre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a student from taking unnecessary courses that may not be approved, which could waste his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submit their Degree Plans in the second semester of admission at max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EB06-FD7C-4284-AFE3-4FFE494161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B617-BB3C-4AEC-880B-37DEDB6C7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89A84D-4ADB-4F76-9FC5-9C6543905C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hange of Degree 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990720" y="266688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on the website of D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d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ly 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study at KFU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092-6722-44E7-86DD-6C6F386C94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085A-FA4D-4A5D-A6AC-21EE79A89F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3D5CDB-92A4-4BC9-9BEB-C47F7FD52B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GPA &amp; Warning Polic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990720" y="24382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graduate stude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s to mainta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nimum GPA of 3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with GPA less than 3.00 will be placed on 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ademic prob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y should eventually raise their G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status is reviewed every semester and will be issued Warning or Sever Warning le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raise the GPA above 3.00 will result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mis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E28F-962E-4D83-88B4-3FB96CF4CA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A00E-9AFF-47A4-9FD3-24EFA8C83B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31AE46-CC37-4FD9-830C-3D382608E9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tarting your Thesis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09480" y="240516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deciding on your thesis supervisor and initial topic as early as possibl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ay it until you finish your coursework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want to select some of your course projects as introduction to your thesi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ay, you will be ready to submit the proposal by the time you end the cours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9ADD-E6C0-4174-8E15-FBAF643CA22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282F-0959-4894-81F2-EB5DEC2965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557128-3397-4C3C-B254-F257573CDC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sis/Dissertation Proposal &amp; Committee Appoin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685800" y="24382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/Dissertation is required from all M.Sc and PhD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quired from students of other degrees such as M.Engg, M.C.R.P., M.B.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and Committee should be approved by Department Council, College Council and by Deanship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required forms available on DGS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refer to the chapter on Thesis in the Graduate Bulle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001B-DAB9-4023-B1AE-7F31E8F2425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1365-E772-4BEC-970F-AD3F8467B2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361B1C-5FC6-4BA4-A576-33BA83B2F3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ublic Oral Defense of Thesis/Disser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685800" y="24382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is requi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ll M.Sc and PhD students as a part of their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form has to be submit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weeks before the intended date of de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gap between the proposal approval date and oral defense reques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3 mont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defen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not 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registration periods, final examinations and summer seme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4808-860F-4BFA-8721-B051EE5EF6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BA51-353C-4E8A-A57E-240B8550E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FE8520-9CC0-41E1-ABD4-B804AE35E3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Overview at KFUP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838080" y="22860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in 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7 colleges and 17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state-of-the-art IT center, Library,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ly, KFUPM ranked the 1</a:t>
            </a:r>
            <a:r>
              <a:rPr b="0" lang="sv-SE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rab World and the 338</a:t>
            </a:r>
            <a:r>
              <a:rPr b="0" lang="sv-SE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ver universities in the world (TimesQ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s support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ship of Scientific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Centers of Research Excel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CST funds for faculty and graduat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DA28-05EC-4D2F-830C-02EA9715356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6417-6F74-4126-93D7-F492ACB52B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505750-90CF-411A-8A3C-D3A6B92BD9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eadmis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685800" y="1905120"/>
            <a:ext cx="77724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on the website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following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a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 for one sem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rop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rses in a sem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-time graduate students, RAs, Lecturers-B are NOT allowed to drop a semester or withdraw from ALL cou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can get re-admission for 3 times at m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ould be submit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4 weeks before the start of the intended semester to the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udents inactive for more than 6 semesters, their cases have to be approved by Dept., College and Graduate Council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864-240C-4E15-99EA-85E061F0D59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009-F841-43F5-A754-29C0808600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1C6A7C-C918-4C35-B0B3-2F1FB8135B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ublic Oral Defense of Thesis/Disser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685800" y="24382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is requi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ll M.Sc and PhD students as a part of their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form has to be submit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weeks before the intended date of de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gap between the proposal approval date and oral defense reques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3 mont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defen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not 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registration periods, final examinations and summer seme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ED09-BEF4-40A7-AC77-416E23C3938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7BBC-75D1-4780-B6C3-32AF85447B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77E8A4-DEE1-4321-A530-AB019333F3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09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Arial"/>
              </a:rPr>
              <a:t>Important Note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Please read the Graduate Bulletin carefu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7C4B-98E3-469B-9012-C7ECFBC5A36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5436-881D-473B-958E-8C6C3C4427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27FAE1-FD98-451E-BA8D-32E9E1BD7D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Important Dead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73A2-793E-4D81-B247-8F044B8BEE7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C140-441B-4933-8CFD-AFA6A44A1E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365D0A-246C-4981-987B-7FF39BE10B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3880" y="2287440"/>
          <a:ext cx="6096240" cy="3883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ademic Is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ad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mission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weeks before new semester st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ing Degree 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months before new semester st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ee Plan Submi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emester from initial admi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 defense Request  Fo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weeks before intended defens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day of defe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day of cl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day for clearing pending issues to avoid 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weeks before new semester st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strips dir="ru"/>
    <p:sndAc>
      <p:stSnd>
        <p:snd r:embed="rId2" name="click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FT MSc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F82-4171-4938-872D-FBDF05226B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A50D-2A12-44F8-825C-5BEAC52156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BD0244-9CC7-45A1-BEAC-F535E649C4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962520" y="251928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438280" y="28386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2438280" y="335268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advisor and preliminary thesis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2438280" y="436896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thesis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2438280" y="541008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PT MSc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929A-E779-4CD4-BF24-9341DEA730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B771-6FA3-48F8-9737-77B57F414F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503679-3299-4D09-9C42-8DE09E8C44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3962520" y="190980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2438280" y="22287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2438280" y="27432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2438280" y="434340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thesis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2438280" y="53532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ork on 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2438280" y="354636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advisor and preliminary thesis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2438280" y="586728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FT PhD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B52B-F54C-44B4-B365-7C5D6E08277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610B-1CA8-4AD7-B1BD-17926227A3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B61AD7-3AFD-4CAE-ABB4-7F12CD858E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962520" y="167652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2438280" y="20001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2438280" y="25146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438280" y="41148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ss Comprehensive Ex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2438280" y="4915080"/>
            <a:ext cx="4267440" cy="7304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issertation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&amp; defend dissertation propos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2438280" y="56577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and 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ork 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rtation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2438280" y="331776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issertation topic and superv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9"/>
          <p:cNvSpPr/>
          <p:nvPr/>
        </p:nvSpPr>
        <p:spPr>
          <a:xfrm>
            <a:off x="2438280" y="61722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Content Placeholder 5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7007-017A-4FAC-8FFF-50F5211F71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7DCCA8-39A8-47F7-BD96-820B26FDB0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82AE-0559-4EE1-8A55-9C0BA92064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609480" y="24382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not in touch with the Department and D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getting to do the registration confirmation at the beginning of every semester (</a:t>
            </a:r>
            <a:r>
              <a:rPr b="0" i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tailed explanation by the Regist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ping ALL courses and NOT applying for re-admission for next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on provisional status do not read the conditions mentioned in their admission letters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checking the university email regul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9CF7-E0A3-47D0-851B-BEF46E3645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950D-4474-4136-A9A7-D152CBBC55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F4EC7B-03CF-494A-AC54-44DB0C6838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35B8-6ABF-4D92-A39A-A948202582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B769-A6EB-4539-A6A6-5925F75DCE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65DDA9-FFB4-421A-B214-88B65BB6F6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2666880" y="3657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y Que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History of Deanship of Graduat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38080" y="253368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in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ly called College of Graduate Studies (C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ly called Deanship of Graduate Studies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Graduate College in Gulf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FUPM – the </a:t>
            </a:r>
            <a:r>
              <a:rPr b="1" lang="sv-S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rst university in Saudi Arabia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troduce PhD Programs in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FUPM has 9 PhD and 28 MS programs in 21 de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C1EE-5441-47C5-86A2-094938E5FDF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32B5-B80C-4D30-86A8-F797A416F2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16336A-9E1C-483B-B719-7207937778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</a:rPr>
              <a:t>Some statis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A53A-0B28-46E9-B08D-BF5A59BD9F3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CAD9-BBF0-4CED-9761-D6123B713B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3FF1DA-2DA1-4B6E-BAD2-E275B43569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hart 9" descr=""/>
          <p:cNvPicPr/>
          <p:nvPr/>
        </p:nvPicPr>
        <p:blipFill>
          <a:blip r:embed="rId2"/>
          <a:stretch/>
        </p:blipFill>
        <p:spPr>
          <a:xfrm>
            <a:off x="225360" y="1133640"/>
            <a:ext cx="8693280" cy="51210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</a:rPr>
              <a:t>Some statis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D782-ECCE-4375-8848-C06881B49CD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2083-454B-4AAE-974E-A633EC8880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9DE0CD-57E2-4577-B545-5D932C8FC9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8" descr=""/>
          <p:cNvPicPr/>
          <p:nvPr/>
        </p:nvPicPr>
        <p:blipFill>
          <a:blip r:embed="rId2"/>
          <a:stretch/>
        </p:blipFill>
        <p:spPr>
          <a:xfrm>
            <a:off x="378000" y="1968480"/>
            <a:ext cx="8315280" cy="43592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96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pperplate Gothic Bold"/>
                <a:ea typeface="Arial"/>
              </a:rPr>
              <a:t>Strategic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Vi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nable KFUPM be a leader in the region in providing quality graduate programs in Science, Engineering and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Mi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ovide quality graduate programs according to the best international practices that will enhance the research environment at KFUPM and contribute to the dissemination of knowled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4464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  <a:ea typeface="Arial"/>
              </a:rPr>
              <a:t>Strategic Road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the research environment at KFUP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knowledge disse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quality and efficiency of the graduate progr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quality and diversity in graduate student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the efficiency of the Deanship of Graduate Stud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Getting Familiar with Terms an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990720" y="2666880"/>
            <a:ext cx="708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Degre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al and Regula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and Warn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/Proposal &amp; Committee 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75EE-82B2-42B2-AC8F-D385C53693B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0002-D1C4-4A24-8522-108EAEB95E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2B9F1F-6793-416B-AC23-E4DF19F582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cademic 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990720" y="2666880"/>
            <a:ext cx="708660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sent on the website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status from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vis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egu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ving GRE/TOEFL/Deficiency Course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ring Credits from an unfinished degree at another instit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ing more hours than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C701-906E-47CB-83F3-EB166E0E843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E2E8-EFAD-4328-A4B3-D3003AF63B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AF4F56-EE8D-4E8D-BE9C-79AF17AD51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4:44:15Z</dcterms:created>
  <dc:creator>Salam Zummo</dc:creator>
  <dc:description/>
  <dc:language>en-US</dc:language>
  <cp:lastModifiedBy>daud</cp:lastModifiedBy>
  <dcterms:modified xsi:type="dcterms:W3CDTF">2008-11-12T09:52:46Z</dcterms:modified>
  <cp:revision>45</cp:revision>
  <dc:subject/>
  <dc:title>Welcome to KFUPM</dc:title>
</cp:coreProperties>
</file>