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lick.wav" ContentType="audio/x-wav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C12-C6EC-4C49-B3B6-9809FD94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00C-1E28-4F13-B1EB-DDE72E53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031-48D7-4202-B10F-D0C11BC2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F85A-86F3-4A39-8788-99B2FB82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642-444B-427E-AD4B-07D7F77C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32E-B98F-44A9-A595-45C8BAC7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85D-F77F-4D01-B734-345444E8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6F4-22C2-46C5-AB5E-DF1A6563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7D1-6152-4A86-B1C3-4307AA9D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CD6-7766-4F0B-A629-52EEEB6F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239-1CAF-456B-ADF3-33123358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5BB-FFC4-4CC4-AC25-B9164562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C964-8D3B-46C2-B7A0-AD7D292897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971D14-75B9-417F-A9BE-9278FE17F63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anship of Graduate Studies - KFU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CCD8-D6EB-4C50-AA4A-F7157C78773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pperplate Gothic Bold"/>
              </a:rPr>
              <a:t>Welcome to KFU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838080" y="3886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Rules and Regulations of Graduat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B8D5-EA18-4A73-B995-29EDC7C4B7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BA50-7F6A-4429-99E6-2E15D3B6E9EF}" type="datetime">
              <a:rPr b="0" lang="en-US" sz="1400" spc="-1" strike="noStrike">
                <a:solidFill>
                  <a:srgbClr val="17375e"/>
                </a:solidFill>
                <a:latin typeface="Calibri"/>
              </a:rPr>
              <a:t>07/28/26</a:t>
            </a:fld>
            <a:r>
              <a:rPr b="0" lang="en-US" sz="1400" spc="-1" strike="noStrike">
                <a:solidFill>
                  <a:srgbClr val="17375e"/>
                </a:solidFill>
                <a:latin typeface="Calibri"/>
              </a:rPr>
              <a:t> </a:t>
            </a:r>
            <a:fld id="{17FE36C5-151C-4E68-987B-A1C8E35BA49A}" type="datetime12">
              <a:rPr b="0" lang="en-US" sz="1400" spc="-1" strike="noStrike">
                <a:solidFill>
                  <a:srgbClr val="17375e"/>
                </a:solidFill>
                <a:latin typeface="Calibri"/>
              </a:rPr>
              <a:t>06:57 P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Flow of Academic 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3B2C-5202-4A2B-84A5-A70A93E934A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692D-FB53-48B3-A29C-F9FAF6656D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81D116-B519-4B4F-A7DB-343DAF71C4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lowchart: Process 6"/>
          <p:cNvSpPr/>
          <p:nvPr/>
        </p:nvSpPr>
        <p:spPr>
          <a:xfrm>
            <a:off x="3124080" y="2438280"/>
            <a:ext cx="2590920" cy="5335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udent (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Initi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lowchart: Process 8"/>
          <p:cNvSpPr/>
          <p:nvPr/>
        </p:nvSpPr>
        <p:spPr>
          <a:xfrm>
            <a:off x="3124080" y="3276720"/>
            <a:ext cx="2590920" cy="5331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partment’s Graduate Coordinator (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Approv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owchart: Process 9"/>
          <p:cNvSpPr/>
          <p:nvPr/>
        </p:nvSpPr>
        <p:spPr>
          <a:xfrm>
            <a:off x="3124080" y="4800600"/>
            <a:ext cx="2590920" cy="5335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an of Graduate Studies (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Final Approv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Process 10"/>
          <p:cNvSpPr/>
          <p:nvPr/>
        </p:nvSpPr>
        <p:spPr>
          <a:xfrm>
            <a:off x="3124080" y="4038480"/>
            <a:ext cx="2590920" cy="5335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partment Chairman (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Approv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Process 11"/>
          <p:cNvSpPr/>
          <p:nvPr/>
        </p:nvSpPr>
        <p:spPr>
          <a:xfrm>
            <a:off x="3124080" y="5562720"/>
            <a:ext cx="2590920" cy="5331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rar (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Proper Ac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Straight Arrow Connector 13"/>
          <p:cNvCxnSpPr/>
          <p:nvPr/>
        </p:nvCxnSpPr>
        <p:spPr>
          <a:xfrm flipH="1">
            <a:off x="4419360" y="2971440"/>
            <a:ext cx="2160" cy="30564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92" name="Straight Arrow Connector 15"/>
          <p:cNvCxnSpPr/>
          <p:nvPr/>
        </p:nvCxnSpPr>
        <p:spPr>
          <a:xfrm flipH="1">
            <a:off x="4419360" y="3809520"/>
            <a:ext cx="2160" cy="22932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4419360" y="4571640"/>
            <a:ext cx="2160" cy="22932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4419360" y="5333760"/>
            <a:ext cx="2160" cy="22932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</p:spTree>
  </p:cSld>
  <p:transition>
    <p:strips dir="ru"/>
    <p:sndAc>
      <p:stSnd>
        <p:snd r:embed="rId2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rovisional &amp; Regular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685800" y="23623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udent admitted with academic deficiencies is referred to a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VISIONAL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cademic deficiencies could b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E, GMAT, TOEFL, Deficiency Courses, GPA in first 6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should fulfill these deficiencies within the first semester of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changed into Regular within first semester, students will be held from registration in the Early Registration and next se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1DF1-7BCF-456D-B3AE-7025BCAC9C0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1795-DA93-4029-A7FC-AAE5494E08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3775E5-0EAF-4C82-B8BA-A1F5F5A3A6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emoval of Provisional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8ACB-2C64-4BEE-A75B-DACB61A9D47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2364-E4D1-4929-AF56-FCDAD6C898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822048-86CD-4698-87D5-F36364093D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685800" y="26668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should use the academic petition form when they have fulfilled the academic defici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uch a petition is approved, the student will becom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regular 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pperplate Gothic Bold"/>
              </a:rPr>
              <a:t>Hold Li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609480" y="24382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st prepared twice every se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names of students who are still on Provisional St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students should arrange to remove the names from the list by changing into Re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failing to do so will be put on registration hold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ll not be allow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gister for the forthcoming semes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A042-7406-4BBD-B323-ECCDC5AA38C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B047-4385-417E-B811-7EDBC3C134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6E4273-5CE1-4503-84E3-CC20D16F58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pperplate Gothic Bold"/>
              </a:rPr>
              <a:t>Degree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85800" y="254952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m available on DGS website in excel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oadmap for earning a deg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what a student has achieved and what is still needed for completing the degre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a student from taking unnecessary courses that may not be approved, which could waste his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should submit their Degree Plans in the second semester of admission at maxi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A8AA-9909-46DD-BE59-56E37D3486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5904-A378-4188-9EC1-591ABA61BF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898660-A908-4249-8D03-C4CC2015EA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hange of Degree Obje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990720" y="266688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m on the website of D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d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ly o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study at KFU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7E67-8F1A-43FB-A07D-1488B2B3B70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5C45-FCF3-4E9B-B2C1-578326A04B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349D4F-239B-401F-92B7-249508183CD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GPA &amp; Warning Polic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990720" y="24382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graduate stude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s to mainta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nimum GPA of 3.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with GPA less than 3.00 will be placed on 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ademic prob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y should eventually raise their G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status is reviewed every semester and will be issued Warning or Sever Warning let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raise the GPA above 3.00 will result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mis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9C90-C47F-472C-A814-307004EE591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ABB6-9798-4DCD-9057-0C4DCAD56C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2EA923-D1ED-4CDA-9C68-655DD2A20C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Starting your Thesis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09480" y="240516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deciding on your thesis supervisor and initial topic as early as possible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ay it until you finish your coursework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ight want to select some of your course projects as introduction to your thesi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ay, you will be ready to submit the proposal by the time you end the cours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419A-055A-4DB1-8B26-9D7625BCF06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C767-99C8-43D1-8283-F832AF1055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1079C5-1C17-4809-93A9-C801D83E35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sis/Dissertation Proposal &amp; Committee Appoin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685800" y="24382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is/Dissertation is required from all M.Sc and PhD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required from students of other degrees such as M.Engg, M.C.R.P., M.B.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and Committee should be approved by Department Council, College Council and by Deanship of Graduate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required forms available on DGS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refer to the chapter on Thesis in the Graduate Bulle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2990-1F7C-45FF-8D2C-6228C350AB0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C128-47F3-4872-98B3-A73E33F006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CC784A-A7FF-48BF-B6B0-F27E04CFCC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ublic Oral Defense of Thesis/Disser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685800" y="24382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ubl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al defense is requir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ll M.Sc and PhD students as a part of their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al defense form has to be submit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weeks before the intended date of def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um gap between the proposal approval date and oral defense request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s 3 month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defens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not allow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registration periods, final examinations and summer seme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C66D-A6A6-471A-8454-57860EFD823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50B1-2D33-4A58-997C-ED6011DA2C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97B24B-0A67-463E-9377-E53DCF0EF57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Overview at KFUP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838080" y="228600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ed in 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7 colleges and 17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state-of-the-art IT center, Library,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ly, KFUPM ranked the 1</a:t>
            </a:r>
            <a:r>
              <a:rPr b="0" lang="sv-SE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rab World and the 338</a:t>
            </a:r>
            <a:r>
              <a:rPr b="0" lang="sv-SE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ver universities in the world (TimesQ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s support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nship of Scientific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nstit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Centers of Research Excel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CST funds for faculty and graduat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BA78-981D-437B-9005-68A88CE4236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D189-D04B-4DCE-B923-FD450320A1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A898B4-3CBB-46B1-BF6D-4F4B14B901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eadmis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685800" y="1905120"/>
            <a:ext cx="77724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m on the website of Graduate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following 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een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ac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en for one sem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ropp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rses in a sem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-time graduate students, RAs, Lecturers-B are NOT allowed to drop a semester or withdraw from ALL cou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udent can get re-admission for 3 times at ma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m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ould be submit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4 weeks before the start of the intended semester to the depar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udents inactive for more than 6 semesters, their cases have to be approved by Dept., College and Graduate Council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A5D9-3226-49E4-91CD-3E3DB5BDA4F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0E48-7644-4CBC-BF43-D641E4BE92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3D5925-724B-4B6B-A2E8-42B5AE23B8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ublic Oral Defense of Thesis/Disser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685800" y="24382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ubl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al defense is requir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ll M.Sc and PhD students as a part of their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al defense form has to be submit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weeks before the intended date of def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um gap between the proposal approval date and oral defense request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s 3 month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defens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not allow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registration periods, final examinations and summer seme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DD98-2174-4339-82CB-6DD97EB84D6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C1A5-1E65-4571-8BED-9EF1CF8BB6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B526F1-0D59-45B2-B5DA-8202D68566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22093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  <a:ea typeface="Arial"/>
              </a:rPr>
              <a:t>Important Note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Please read the Graduate Bulletin careful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343F-F4C2-437D-B75B-9BFD71279D7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ADE3-A98D-4727-BCB7-E24659EA2C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19AB74-43F4-4E4F-8E63-D28FA9B26F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Important Dead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1C6D-7C38-4BED-9D4A-F4A69D4E22E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334D-6601-4384-B01F-B666DFF12E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D082BD-CCA9-4839-BAF0-68A8A8DDB6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23880" y="2287440"/>
          <a:ext cx="6096240" cy="38833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ademic Is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ad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dmission 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weeks before new semester st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ing Degree Obj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months before new semester st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gree Plan Submi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emester from initial admi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l defense Request  Fo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weeks before intended defens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 day of defen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 day of cla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 day for clearing pending issues to avoid 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weeks before new semester st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strips dir="ru"/>
    <p:sndAc>
      <p:stSnd>
        <p:snd r:embed="rId2" name="click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 Typical Degree Time Table for FT MSc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7A7F-4BC8-4C35-8BF0-F5DD94C5886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CAF1-11A0-4C5F-ADB6-9772CA700F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9C3D3B-892C-44E1-B380-54F4270B83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962520" y="2519280"/>
            <a:ext cx="1295280" cy="274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2438280" y="283860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er 2-3 cours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2438280" y="3352680"/>
            <a:ext cx="4267440" cy="1011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n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degre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lect thesis advisor and preliminary thesis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2438280" y="4368960"/>
            <a:ext cx="4267440" cy="1011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r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lect thesis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thesis 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2438280" y="541008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sis defense and degree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 Typical Degree Time Table for PT MSc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7D8B-0E81-47FC-A950-ED45CD7889E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3E80-D104-4BC6-B7BF-292576963F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D1A02C-4A5F-4972-83DF-532212238B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3962520" y="1909800"/>
            <a:ext cx="1295280" cy="274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2438280" y="222876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 cour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2438280" y="274320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n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degre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2438280" y="4343400"/>
            <a:ext cx="4267440" cy="1011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lect thesis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thesis 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2438280" y="535320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ork on 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2438280" y="354636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r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lect thesis advisor and preliminary thesis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2438280" y="586728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sis defense and degree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 Typical Degree Time Table for FT PhD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7DD7-2C0B-442C-B09D-D0A4CDAC8FC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F912-3227-4884-96A2-32D6A41905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DE0993-6EFA-4F59-9591-06EBCC573C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3962520" y="1676520"/>
            <a:ext cx="1295280" cy="274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2438280" y="200016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-3 cour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2438280" y="251460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n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degre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2438280" y="411480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ss Comprehensive Ex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2438280" y="4915080"/>
            <a:ext cx="4267440" cy="7304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issertation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&amp; defend dissertation propos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2438280" y="565776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and 7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ork 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rtation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8"/>
          <p:cNvSpPr/>
          <p:nvPr/>
        </p:nvSpPr>
        <p:spPr>
          <a:xfrm>
            <a:off x="2438280" y="331776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r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issertation topic and supervi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9"/>
          <p:cNvSpPr/>
          <p:nvPr/>
        </p:nvSpPr>
        <p:spPr>
          <a:xfrm>
            <a:off x="2438280" y="617220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8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sis defense and degree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Content Placeholder 5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4F74-7323-40F9-BE6C-485A733BBD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1C97F5-671B-431D-9AFB-3E089877D6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2F49-63A4-4E00-BE7E-C069A0A4378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Common Mistak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609480" y="24382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not in touch with the Department and D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getting to do the registration confirmation at the beginning of every semester (</a:t>
            </a:r>
            <a:r>
              <a:rPr b="0" i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tailed explanation by the Regist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ping ALL courses and NOT applying for re-admission for next se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on provisional status do not read the conditions mentioned in their admission letters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checking the university email regul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6FA5-3AC1-4663-9E1E-110764E7E9E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DD17-3378-4855-AE37-2ABC57470E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CECFD3-3C28-4F72-84C1-1505B5704B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pperplate Gothic Bold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1825-5E1A-41A9-856C-14F1E3013FA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671D-62BF-42DA-914C-B8E78A23CC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6F7E82-9642-4E49-8338-D0B8963149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2666880" y="3657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y Quer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History of Deanship of Graduat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838080" y="2533680"/>
            <a:ext cx="739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ed in 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rly called College of Graduate Studies (C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ly called Deanship of Graduate Studies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Graduate College in Gulf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FUPM – the </a:t>
            </a:r>
            <a:r>
              <a:rPr b="1" lang="sv-S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rst university in Saudi Arabia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troduce PhD Programs in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FUPM has 9 PhD and 28 MS programs in 21 dec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1A1A-88C8-431D-A248-F3A58FEAAAA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2167-E237-42D5-B0D2-9E912517B3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7C1735-F70C-49A7-A83B-0547DFB50B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pperplate Gothic Bold"/>
              </a:rPr>
              <a:t>Some statis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0373-F75B-4784-AD94-AB13D0A504D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F60B-DEB5-4144-9223-81F8430DB9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45EE51-E255-471B-AA52-ACACA47C75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hart 9" descr=""/>
          <p:cNvPicPr/>
          <p:nvPr/>
        </p:nvPicPr>
        <p:blipFill>
          <a:blip r:embed="rId2"/>
          <a:stretch/>
        </p:blipFill>
        <p:spPr>
          <a:xfrm>
            <a:off x="225360" y="1133640"/>
            <a:ext cx="8693280" cy="51210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pperplate Gothic Bold"/>
              </a:rPr>
              <a:t>Some statis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41E5-06A8-4B38-B82E-182A5F6D579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3CEB-0ABA-47DC-9F3A-4B54836BA8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024D86-4FF9-42FB-BA15-79B857122CF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hart 8" descr=""/>
          <p:cNvPicPr/>
          <p:nvPr/>
        </p:nvPicPr>
        <p:blipFill>
          <a:blip r:embed="rId2"/>
          <a:stretch/>
        </p:blipFill>
        <p:spPr>
          <a:xfrm>
            <a:off x="378000" y="1968480"/>
            <a:ext cx="8315280" cy="435924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969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pperplate Gothic Bold"/>
                <a:ea typeface="Arial"/>
              </a:rPr>
              <a:t>Strategic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Vi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nable KFUPM be a leader in the region in providing quality graduate programs in Science, Engineering and Manag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Mi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rovide quality graduate programs according to the best international practices that will enhance the research environment at KFUPM and contribute to the dissemination of knowled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4464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pperplate Gothic Bold"/>
                <a:ea typeface="Arial"/>
              </a:rPr>
              <a:t>Strategic Roadm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 the research environment at KFUP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knowledge disse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quality and efficiency of the graduate progr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quality and diversity in graduate student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the efficiency of the Deanship of Graduate Stud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Getting Familiar with Terms and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990720" y="2666880"/>
            <a:ext cx="7086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Degree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al and Regular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A and Warn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is/Proposal &amp; Committee Appoi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0A20-EF3D-4A4C-8C4D-C6A29492AC6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9984-F60A-4CE3-91C8-FC13C11C14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8B2C50-49A4-4A5D-8F2B-19A05CD381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Academic 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990720" y="2666880"/>
            <a:ext cx="708660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sent on the website of Graduate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us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status from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vis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regul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ving GRE/TOEFL/Deficiency Course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ring Credits from an unfinished degree at another instit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ing more hours than allow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D199-0AED-42C0-B17E-ADA0C35521B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5C7C-7E0D-4A61-9D60-AA48470C1D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4C3F24-D87F-4BD0-9BA7-A2704A2490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04:44:15Z</dcterms:created>
  <dc:creator>Salam Zummo</dc:creator>
  <dc:description/>
  <dc:language>en-US</dc:language>
  <cp:lastModifiedBy>daud</cp:lastModifiedBy>
  <dcterms:modified xsi:type="dcterms:W3CDTF">2008-11-12T09:52:46Z</dcterms:modified>
  <cp:revision>45</cp:revision>
  <dc:subject/>
  <dc:title>Welcome to KFUPM</dc:title>
</cp:coreProperties>
</file>