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514B-E15C-4BBB-A0E2-16EDC2E723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F24-3A8F-492B-86FE-8F40055A195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8EC2-0686-45D3-A774-11CCDBDAD0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CA91-36A7-4C31-AB89-51C729617E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E97B-7FAC-49B1-8731-95B21D7F9BE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1299-4A05-442C-8619-A5710CABF8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6280-6387-417A-A88C-6DE3CAA850C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1C99-CB07-41F6-87C1-9DEE96F08A8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2EA6-8C8D-4EBC-B101-1194C113FFB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C7D1-DA0A-4677-A925-26B7CEFAF45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362A-D40F-4B87-B450-9E7C2E3F07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2A9-7C52-49B8-9C8D-E31BF9182D9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5C72-A793-4A87-9FC0-6F719109E4E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5CA-7B0F-4E8C-9D12-B31D8FB94FD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6DC-8537-49BB-882C-6AC6897C0E1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85F-970F-48C6-A032-81E7C7F0FF7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36B4-F149-49F5-AB35-6F161B90F6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170F-2A86-4764-ACE7-ACF833054D7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5739-60B2-40B5-A785-00E261D7DA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7E36-73E3-4E94-9535-D393F6A84B1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0350-23E5-41E3-9CC0-960FB46F036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780-02C0-4D05-9392-793A1A426D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1F0-9426-4C48-8337-0447C214434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FEBD-2B45-4E11-80AF-BFFDDCD9A9A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A68-FB7C-404F-B391-6B9311C3F34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D384-3F22-4DF6-A201-7D6327DB637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Verdana"/>
              </a:rPr>
              <a:t> S.A.M. Said </a:t>
            </a:r>
            <a:br>
              <a:rPr sz="3600"/>
            </a:b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66ccff"/>
                </a:solidFill>
                <a:latin typeface="Verdana"/>
              </a:rPr>
              <a:t>Encourages Active Learning</a:t>
            </a: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Students do not learn much just sitting in classes listening to teachers and memorizing pre-packaged assignment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talk about what they are learning, write about it, relate it to past experiences and apply it to their daily li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make what they learn a part of themsel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Ask your students to present their work in clas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Gives Prompt Feedbac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Knowing what you know and don’t know focuses learning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getting started, students need help in assessing existing knowledge and competence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classes students need frequent opportunity to perform and get suggestions for improvement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They need a chance to reflect on what they have learned, what they still need to know and how to assess themselves.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Return assignments and tests within a week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Emphasizes Time on Tas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ime plus energy equals learning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here is no substitute for time on task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Learning to use time well is critical for students and professionals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Students need help in learning effective time manageme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llocating realistic amounts of time means effective learning for students and effective teaching for faculty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Expect your students to complete assignments promptl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Communicates High Expectation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 more and you will get it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High expectations are important for everyone – for the poorly prepared, for those unwilling to exert themselves, and for the bright and motivated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ing students to perform well becomes a self-fulfilling prophesy when teachers and institutions hold high expectations of themselves and make extra efforts.</a:t>
            </a:r>
            <a:r>
              <a:rPr b="0" lang="en-CA" sz="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</a:t>
            </a: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 students to excel at the work they do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Respects Diverse Talents and Ways of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here are many roads to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People come with different talents and styles of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rilliant students in the classroom may be not be good in the lab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rich in hands-on experience may not do so well in theory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2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need opportunity to show their talents in ways that work for them.</a:t>
            </a: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Encourage students to speak up when they do not understan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The UK &amp; Australian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This approach examin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students approach learning an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teachers approach teaching 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Students Approaches to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Surface Approach – intend to reproduc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Deep Approach – intend to understand, integrat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    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BUT – most students are capable of either – it seems to depend a lot on: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assessment demands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features of the learning environment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 flipH="1" flipV="1">
            <a:off x="6349320" y="373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Teachers Approaches to Teach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eacher-focused approach – focus is on transmission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-centred approach – focus is on students developing their own understanding of concept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Interaction of both Approach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s taught with a teacher-focused approach are more likely to take a surface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Students taught with a more student-centred approach tend to take a more deep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 teacher focussed approach is practiced more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use of active learning 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regular 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reasonable workload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independence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 focus on students developing their own understanding of concep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BLOOM'S TAXONOM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굴림"/>
              </a:rPr>
              <a:t>Factors Influence Students’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Students Approaches to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Good Teaching / Features of 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ffective Teaching is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reasonable workloads is a key, even if it means reducing content “coverage”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cut down on lecture time and extend individual study time and time for designated projec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Teaching in Higher Education i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shifting the emphasis away from what is taught to what students lear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, understand, or discover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eachers wh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oduc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tudents who are higher achiev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Brilliant teaching reflect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personal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and the ability t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actice based on research on good teaching and learning in colleges and universitie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f implemented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Effective teaching must result in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“deep” learning and lifelong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Fostering an environment of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s a must for enhancing student learn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cc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One of the greatest sins in teaching i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Having a knowledge of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found that over 95 % of the test questions students encounter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require students to think only at the lowest possible level...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the recall of informatio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Bloom identified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within the 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classify, describe, discuss, explain, express, identify, indicate, locate, recognize, report, restate, review, select, translate,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ly, choose, demonstrate, dramatize, employ, illustrate, interpret, operate, practice, schedul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nalyze, appraise, calculate, categorize, compare, contrast, criticize, differentiate, discriminate, distinguish, examine, experiment, question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raise, argue, assess, attach, choose compare, defend estimate, judge, predict, rate, cor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North American Approach: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The seven principles of good practice in undergraduate educatio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2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UK &amp; Australian Approach: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Examines how students approach learning and   how teachers approach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CA" sz="3000" spc="-1" strike="noStrike">
                <a:solidFill>
                  <a:srgbClr val="66ccff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Encourages Student-Faculty Contact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Make it a point to talk with your students on a personal level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Learn about their educational and career plans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s 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eam effort than a solo race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Good learning, like good work is collaborative and social, not competitive and isolated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Working with others often increases involvement in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haring one’s ideas and responding to others’ reactions improves thinking and deepens understanding.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eginning with the first class have students participate in activities that encourage them to get to know each other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Abdirahman</cp:lastModifiedBy>
  <cp:lastPrinted>2007-10-04T11:43:09Z</cp:lastPrinted>
  <dcterms:modified xsi:type="dcterms:W3CDTF">2009-01-31T06:04:09Z</dcterms:modified>
  <cp:revision>450</cp:revision>
  <dc:subject/>
  <dc:title>Slide 1</dc:title>
</cp:coreProperties>
</file>