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lick.wav" ContentType="audio/x-wav"/>
  <Override PartName="/ppt/media/image7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E08D-AAA7-4BD0-83C3-5E3BD75F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54F-359A-4858-A5A8-C4948239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3AA-2AD9-431C-958F-FB23AA04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392-E80F-4AC6-872D-DEC46374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5C9-8777-49DD-9A9C-E3C746FC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94C-A015-4BEA-89E5-9C2D4E42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55A0-D969-47C8-9EB7-B91736DE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708-B90C-4EF6-A1D7-35483FF6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A16-4500-4834-897A-879C362E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9BB-7954-4075-8A5D-391BB7EF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65D-F0CA-4FFD-8FC2-A1ED6D6B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B6A-13F4-4215-9C3B-D71A52B1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E6F9-BF7E-4370-9D22-6D8E840CE8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4A7C0D-74F0-4F0E-A4D6-516495124F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anship of Graduate Studies - KFU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9477-6D02-4A74-AF89-37CE059D559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g????????@kfupm.edu.sa" TargetMode="External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pperplate Gothic Bold"/>
              </a:rPr>
              <a:t>Welcome to KFUP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838080" y="3886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Rules and Regulations of Graduat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EB53-E9CC-421F-A345-8E3F49A796F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8057-654E-489B-B550-59F99F0FDBD3}" type="datetime">
              <a:rPr b="0" lang="en-US" sz="1400" spc="-1" strike="noStrike">
                <a:solidFill>
                  <a:srgbClr val="17375e"/>
                </a:solidFill>
                <a:latin typeface="Calibri"/>
              </a:rPr>
              <a:t>07/29/26</a:t>
            </a:fld>
            <a:r>
              <a:rPr b="0" lang="en-US" sz="1400" spc="-1" strike="noStrike">
                <a:solidFill>
                  <a:srgbClr val="17375e"/>
                </a:solidFill>
                <a:latin typeface="Calibri"/>
              </a:rPr>
              <a:t> </a:t>
            </a:r>
            <a:fld id="{BCD35A7D-3DFE-4F5D-A8A1-A23B90156EA0}" type="datetime12">
              <a:rPr b="0" lang="en-US" sz="1400" spc="-1" strike="noStrike">
                <a:solidFill>
                  <a:srgbClr val="17375e"/>
                </a:solidFill>
                <a:latin typeface="Calibri"/>
              </a:rPr>
              <a:t>07:17 P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4464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pperplate Gothic Bold"/>
                <a:ea typeface="Arial"/>
              </a:rPr>
              <a:t>Strategic Road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 the research environment at KFUP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knowledge disse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quality and efficiency of the graduate progr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quality and diversity in graduate student b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the efficiency of the Deanship of Graduate Stud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Getting Familiar with Terms and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990720" y="26668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Degree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al and Regular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Graduate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A and Warn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is/Proposal &amp; Committee Appoi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7269-5035-4CF1-9FAF-7110FA3769B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A0E6-91DE-419F-8898-D116E23C76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FB377B-4805-4D28-966C-3B8245ADB3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Academic Pet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990720" y="2666880"/>
            <a:ext cx="708660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sent on the website of Graduate Stu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us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status from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vis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gul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status from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-Gradu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radu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ving GRE/TOEFL/Deficiency Course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ring Credits from an unfinished degree at another instit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ing more hours than allow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F52D-029E-4B12-A6CB-2632A42937F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1979-FD57-4207-A346-1A1DAD3430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38CB93-4B6F-4581-A944-71BB88D139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Flow of Academic Pet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A184-B5CD-4A57-B71B-5882B116A33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F4B6-3E70-4AB2-8B57-C5C05AB473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EA46A7-5C2E-42B0-9531-20C9E8591A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Process 6"/>
          <p:cNvSpPr/>
          <p:nvPr/>
        </p:nvSpPr>
        <p:spPr>
          <a:xfrm>
            <a:off x="3124080" y="2438280"/>
            <a:ext cx="2590920" cy="5335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udent (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Initi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Process 8"/>
          <p:cNvSpPr/>
          <p:nvPr/>
        </p:nvSpPr>
        <p:spPr>
          <a:xfrm>
            <a:off x="3124080" y="3276720"/>
            <a:ext cx="2590920" cy="5331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partment’s Graduate Coordinator (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Approva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lowchart: Process 9"/>
          <p:cNvSpPr/>
          <p:nvPr/>
        </p:nvSpPr>
        <p:spPr>
          <a:xfrm>
            <a:off x="3124080" y="4800600"/>
            <a:ext cx="2590920" cy="5335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an of Graduate Studies (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Final Approva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lowchart: Process 10"/>
          <p:cNvSpPr/>
          <p:nvPr/>
        </p:nvSpPr>
        <p:spPr>
          <a:xfrm>
            <a:off x="3124080" y="4038480"/>
            <a:ext cx="2590920" cy="5335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partment Chairman (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Approva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lowchart: Process 11"/>
          <p:cNvSpPr/>
          <p:nvPr/>
        </p:nvSpPr>
        <p:spPr>
          <a:xfrm>
            <a:off x="3124080" y="5562720"/>
            <a:ext cx="2590920" cy="5331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rar (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Proper Ac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13"/>
          <p:cNvCxnSpPr/>
          <p:nvPr/>
        </p:nvCxnSpPr>
        <p:spPr>
          <a:xfrm flipH="1">
            <a:off x="4419360" y="2971440"/>
            <a:ext cx="2160" cy="30564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95" name="Straight Arrow Connector 15"/>
          <p:cNvCxnSpPr/>
          <p:nvPr/>
        </p:nvCxnSpPr>
        <p:spPr>
          <a:xfrm flipH="1">
            <a:off x="4419360" y="3809520"/>
            <a:ext cx="2160" cy="22932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96" name="Straight Arrow Connector 16"/>
          <p:cNvCxnSpPr/>
          <p:nvPr/>
        </p:nvCxnSpPr>
        <p:spPr>
          <a:xfrm flipH="1">
            <a:off x="4419360" y="4571640"/>
            <a:ext cx="2160" cy="22932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97" name="Straight Arrow Connector 17"/>
          <p:cNvCxnSpPr/>
          <p:nvPr/>
        </p:nvCxnSpPr>
        <p:spPr>
          <a:xfrm flipH="1">
            <a:off x="4419360" y="5333760"/>
            <a:ext cx="2160" cy="22932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</p:spTree>
  </p:cSld>
  <p:transition>
    <p:strips dir="ru"/>
    <p:sndAc>
      <p:stSnd>
        <p:snd r:embed="rId2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Provisional &amp; Regular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685800" y="23623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udent admitted with academic deficiencies is referred to as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VISIONAL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cademic deficiencies could b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E, GMAT, TOEFL, Deficiency Courses, GPA in first 6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should fulfill these deficiencies within the first semester of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changed into Regular within first semester, students will be held from registration in the Early Registration and next se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9C8C-41E4-4462-B935-7DC5A8C5DFE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558B-3879-4755-8BE0-4A717E2EF6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3AC76F-A9C9-4374-B65E-B11FD34756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Removal of Provisional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4431-26C0-494A-98AD-DC145F78999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B6F0-F652-454D-A026-CFA05C36D3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41F6E8-19C7-4B44-B67C-0F5EC49F2D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685800" y="266688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should use the academic petition form when they have fulfilled the academic defici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uch a petition is approved, the student will becom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regular 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pperplate Gothic Bold"/>
              </a:rPr>
              <a:t>Hold Li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609480" y="24382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st prepared twice every se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names of students who are still on Provisional St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students should arrange to remove the names from the list by changing into Re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failing to do so will be put on registration hold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ll not be allow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gister for the forthcoming semes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6F36-4324-4FDA-BE88-991F0C5140C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B33B-BDAF-4C7D-96A1-8009795912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84E73B-BD1E-4B1E-A83A-0AE40AC8E0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pperplate Gothic Bold"/>
              </a:rPr>
              <a:t>Pre-Graduate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609480" y="24382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special program for students with weak achievements in their BS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y showed good work experience and high motivation to continue their MS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y be granted admission as Pre-Graduate until they pass 3 graduate courses, two of which are core courses with a grade of B and above in each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strictly monitored and revised at the end of each se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7913-2608-453E-A2B3-B859CB47CCA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9A3C-C123-4020-AD85-B29BAAEBAB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39C77F-8BDD-4C35-BF9F-0AAFBF22DE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pperplate Gothic Bold"/>
              </a:rPr>
              <a:t>Degree Pl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685800" y="25495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Form available on DGS website in excel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oadmap for earning a deg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what a student has achieved and what is still needed for completing the degre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a student from taking unnecessary courses that may not be approved, which could waste his time and delay his graduation proc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should submit their Degree Plans in the second semester of admission at maxi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709F-27F6-4351-BB8C-37AC9198526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CA2B-5E11-49CA-9793-DEAD987972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B7EAC9-C186-49EC-96D8-ACF398D370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Change of Degree Obj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90720" y="2666880"/>
            <a:ext cx="7086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Form on the website of D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d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ly o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study at KFU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applies for changing major – only onc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9CEC-2C83-43A9-8EC9-1747DC38431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E4DF-AAF7-4EE1-B86B-9D5FE7571A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C2F532-4534-49C6-98FA-A6346FE9A1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Overview at KFU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838080" y="228600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ed in 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7 colleges and 17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state-of-the-art IT center, Library,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ly, KFUPM ranked the 1</a:t>
            </a:r>
            <a:r>
              <a:rPr b="0" lang="sv-SE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rab World and the 266</a:t>
            </a:r>
            <a:r>
              <a:rPr b="0" lang="sv-SE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ver universities in the world (TimesQ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s supported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nship of Scientific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nstit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Centers of Research Excel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CST funds for faculty and graduat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A76F-2053-49E8-9643-B090B455D5B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49CD-B4EB-4DBF-AB67-0DAA243957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975BD6-EE4F-4DEB-998C-B853AB7B36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GPA &amp; Warning Polic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990720" y="2209680"/>
            <a:ext cx="7086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graduate stude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s to mainta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nimum GPA of 3.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with GPA less than 3.00 will be placed on 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ademic prob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y should eventually raise their G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status is reviewed every semester and will be issued Warning or Sever Warning let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raise the GPA above 3.00 will result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mis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-Time students such as RAs and LBs are given a single chance and then dismissal will be iss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4777-4469-424E-99C0-CF5E23D16E4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3EE4-06EB-448E-ADCF-8E115E765B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376C99-4F93-47C2-856B-0E42445917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Starting your Thesis 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609480" y="240516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deciding on your thesis supervisor and initial topic as early as possible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ay it until you finish your coursework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ight want to select some of your course projects as introduction to your thesi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way, you will be ready to submit the proposal by the time you end the cours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29E7-63FC-47EB-8CDB-5B381524A6E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83F3-6B28-434B-8108-17CD3275AD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4535FD-CED8-4855-A77C-1A3021A8CF8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sis/Dissertation Proposal &amp; Committee Appoin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85800" y="243828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is/Dissertation is required from all M.Sc and PhD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required from students of other degrees such as M.Engg, M.C.R.P., M.B.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and Committee should be approved by Department and College Council and by Deanship of Graduate Stu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required forms available on DGS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refer to the chapter on Thesis in the Graduate Bulle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47AC-7027-4C12-9DC7-27101DA0F61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01AA-ED5F-4D06-A1E9-575675E736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131A0E-6FBC-456F-BD9F-E33DB5C885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ublic Oral Defense of Thesis/Disser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685800" y="24382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ubli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al defense is requir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ll M.Sc and PhD students as a part of their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al defense form has to be submit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weeks before the intended date of def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nimum gap between the proposal approval date and oral defense request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s 3 month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defens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not allow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registration periods, final examinations and summer seme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6F06-B811-4A62-AB08-747F1E33D09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E405-1AAE-4A02-8F23-0C6D0BFFA0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118019-1880-4AE3-BEE2-0BA0110CF1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Readmiss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685800" y="1905120"/>
            <a:ext cx="77724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form on the website of Graduate Stu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following stud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been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ac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en for one seme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ropp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rses in a seme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-time graduate students, RAs, Lecturers-B are NOT allowed to drop a semester or withdraw from ALL cou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udent can get re-admission for 3 times at ma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m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hould be submit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4 weeks before the start of the intended semester to the depar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udents inactive for more than 6 semesters, their cases have to be approved by Dept., College and Graduate Council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FC37-B046-4B2D-9C60-5487F03DC8C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8896-227D-48CC-B3B8-2712A27B10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C10205-2EB0-4EEF-8371-B5A3814F8B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22093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Arial"/>
              </a:rPr>
              <a:t>Important Note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Please read the Graduate Bulletin carefu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86D0-7C9A-465D-A3F3-ACE14162B3B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BE01-ECCB-4434-AFBC-F6F7FF539E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9B882A-A5BB-4C58-8836-F3E2FED180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pperplate Gothic Bold"/>
              </a:rPr>
              <a:t>Important Deadli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03FA-A2D9-4DA2-A747-05776DE33E3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6453-1CE5-4661-A7BA-4977D91298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5C2F37-B90E-444A-88E7-39D336BCBD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3880" y="1905120"/>
          <a:ext cx="6096240" cy="4581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cademic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ead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admission 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 weeks before new semester st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anging Degree Objective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 months before new semester st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gree Plan Sub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d of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Semester from initial ad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hesis Proposal Sub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 months before intended defens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ral defense Request 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 weeks before intended defens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ast day of def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ast day of cla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ast day for clearing pending issues to avoid 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 weeks before new semester st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strips dir="ru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 Typical Degree Time Table for FT MSc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B091-A008-40BD-B37C-56EF65706B9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DC48-19F2-48E1-8073-772AEB8EE3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6B0681-68E6-44A1-9567-EC024908D0D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2519280"/>
            <a:ext cx="1295280" cy="2746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283860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er 2-3 cours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3352680"/>
            <a:ext cx="4267440" cy="1011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n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degre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elect thesis advisor and preliminary thesis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4368960"/>
            <a:ext cx="4267440" cy="1011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r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elect thesis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thesis pro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541008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sis defense and degree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 Typical Degree Time Table for PT MSc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07D3-76DF-4B93-B754-93F5A9706DA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8616-15EC-4EEF-85DB-B57919D176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71279C-A34C-49C5-903D-88640A5BED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1909800"/>
            <a:ext cx="1295280" cy="2746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222876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 cour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274320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n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degre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4343400"/>
            <a:ext cx="4267440" cy="1011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elect thesis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thesis pro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535320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ork on 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354636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r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elect thesis advisor and preliminary thesis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586728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sis defense and degree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 Typical Degree Time Table for FT PhD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13C1-2577-4D1B-AC54-FE232DD4F0B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D2EB-F386-455B-A045-136B08BF5F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274A1A-43E4-42BD-8918-1923BF6946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1676520"/>
            <a:ext cx="1295280" cy="2746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00016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-3 cour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251460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n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degre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1480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ss Comprehensive Ex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915080"/>
            <a:ext cx="4267440" cy="7304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issertation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&amp; defend dissertation propos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565776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and 7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ork 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rtation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331776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r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issertation topic and supervi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617220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8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sis defense and degree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History of Deanship of Graduate Stu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838080" y="2533680"/>
            <a:ext cx="739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ed in 1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rly called College of Graduate Studies (C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ly called Deanship of Graduate Studies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Graduate College in Gulf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FUPM – the </a:t>
            </a:r>
            <a:r>
              <a:rPr b="1" lang="sv-S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rst university in Saudi Arabia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troduce PhD Programs in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FUPM has 10 PhD and 33 MS programs in 23 dec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4C58-F8C8-4609-89C0-3FD37C4D7D6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2F30-A2F0-4F8F-A1E6-D3CD2AAAC6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39E137-F4B7-4A69-A5EB-6B0ED2F0C2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Content Placeholder 5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8524-78D0-4F75-930D-3E2EC5CF7F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00ED02-F25E-4138-BDE9-D62FF2858B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D364-33A7-480C-B62F-66B93537177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Common Mistak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609480" y="24382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not in touch with the Department and D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getting to do the registration confirmation at the beginning of every semester (</a:t>
            </a:r>
            <a:r>
              <a:rPr b="0" i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tailed explanation by the Regist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ping ALL courses and NOT applying for re-admission for next se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on provisional status do not read the conditions mentioned in their admission letters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checking the university student email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g????????@kfupm.edu.s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 regul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07C2-CF1C-4F3D-A64A-DCF83393540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986D-2773-47DA-87DB-A91EBB9133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8F9F13-992F-4C35-92CA-D2B70190CB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3" name="click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071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pperplate Gothic Bold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49AD-EFC5-4195-A773-7D386F260C7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97F6-9EC6-49A5-BDE5-9AD8ED0463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864FBE-0F39-4BAA-AE58-78EBC79704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2666880" y="3900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Chart 7" descr=""/>
          <p:cNvPicPr/>
          <p:nvPr/>
        </p:nvPicPr>
        <p:blipFill>
          <a:blip r:embed="rId2"/>
          <a:stretch/>
        </p:blipFill>
        <p:spPr>
          <a:xfrm>
            <a:off x="378000" y="1517760"/>
            <a:ext cx="8619840" cy="511488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60" name="Chart 2" descr=""/>
          <p:cNvPicPr/>
          <p:nvPr/>
        </p:nvPicPr>
        <p:blipFill>
          <a:blip r:embed="rId2"/>
          <a:stretch/>
        </p:blipFill>
        <p:spPr>
          <a:xfrm>
            <a:off x="-12600" y="981000"/>
            <a:ext cx="9169200" cy="58896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4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4" descr=""/>
          <p:cNvPicPr/>
          <p:nvPr/>
        </p:nvPicPr>
        <p:blipFill>
          <a:blip r:embed="rId2"/>
          <a:stretch/>
        </p:blipFill>
        <p:spPr>
          <a:xfrm>
            <a:off x="146160" y="1596960"/>
            <a:ext cx="8851680" cy="511488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Chart 3" descr=""/>
          <p:cNvPicPr/>
          <p:nvPr/>
        </p:nvPicPr>
        <p:blipFill>
          <a:blip r:embed="rId2"/>
          <a:stretch/>
        </p:blipFill>
        <p:spPr>
          <a:xfrm>
            <a:off x="-6480" y="987480"/>
            <a:ext cx="9156960" cy="526716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969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pperplate Gothic Bold"/>
                <a:ea typeface="Arial"/>
              </a:rPr>
              <a:t>Strategic Roadm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Vi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nable KFUPM be a leader in the region in providing quality graduate programs in Science, Engineering and Manag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Mi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rovide quality graduate programs according to the best international practices that will enhance the research environment at KFUPM and contribute to the dissemination of knowled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3:53:25Z</dcterms:created>
  <dc:creator>Salam Zummo</dc:creator>
  <dc:description/>
  <dc:language>en-US</dc:language>
  <cp:lastModifiedBy>Salam Zummo</cp:lastModifiedBy>
  <dcterms:modified xsi:type="dcterms:W3CDTF">2009-10-13T14:47:44Z</dcterms:modified>
  <cp:revision>6</cp:revision>
  <dc:subject/>
  <dc:title>Welcome to KFUPM</dc:title>
</cp:coreProperties>
</file>