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media/image7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55D-01D5-4A18-92B4-CBA47BE9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EB6-EF38-4F16-BB73-FE2E87FB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65D-295B-49E4-A89B-49D8DB41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FE8-F558-4791-9B25-B906A345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0EE-14AE-46AA-87E7-0CBC933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5CD-AAF1-4531-9DB9-886CB4C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A82-59B9-46C9-8629-6DE4CBD3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6D5-2B1A-447C-B92F-B3C6200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F32-D2E1-4E96-B40A-D39F4C38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76A-01CA-48D4-95B3-AC4C68F8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350-3961-406A-A1D5-9C480918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BDF-43A3-4576-8629-AFD5281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36A4-3B56-45CC-A0EB-506AE98417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B24070-5768-4174-B7E9-5DA0C87E9B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anship of Graduate Studies - KFU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D08-E587-4113-9300-1C5A698F0F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g????????@kfupm.edu.sa" TargetMode="External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pperplate Gothic Bold"/>
              </a:rPr>
              <a:t>Welcome to KFUP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838080" y="3886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Rules and Regulations of Gradu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5689-10D2-4107-A57D-82F1762951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ate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D2B9-2491-4FF2-A1FA-66820E105FB6}" type="datetime">
              <a:rPr b="0" lang="en-US" sz="1400" spc="-1" strike="noStrike">
                <a:solidFill>
                  <a:srgbClr val="17375e"/>
                </a:solidFill>
                <a:latin typeface="Calibri"/>
              </a:rPr>
              <a:t>07/28/26</a:t>
            </a:fld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 </a:t>
            </a:r>
            <a:fld id="{8C7EDE61-830F-48A1-ACB3-883869622728}" type="datetime12">
              <a:rPr b="0" lang="en-US" sz="1400" spc="-1" strike="noStrike">
                <a:solidFill>
                  <a:srgbClr val="17375e"/>
                </a:solidFill>
                <a:latin typeface="Calibri"/>
              </a:rPr>
              <a:t>06:56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4464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the research environment at KFUP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knowledge disse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quality and efficiency of the graduate progr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quality and diversity in graduate student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the efficiency of the Deanship of Graduate Stu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Getting Familiar with Terms and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990720" y="26668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Degre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and Regula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Graduat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 and Warn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Proposal &amp; Committee Appoi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88CE-E4E7-4A71-80EB-7078DD49C7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AFB-2648-4804-8691-6EB4250DF2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1FA110-CA45-4E15-BD45-FC664BDFC5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cademic Pet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990720" y="2666880"/>
            <a:ext cx="70866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ul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status from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-Gradu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radu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ving GRE/TOEFL/Deficiency Cours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ring Credits from an unfinished degree at another instit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ing more hours than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1345-C779-48EF-A178-9669D607BA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4026-857A-4C17-B775-A69586894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CC0F43-2E72-4DE1-AF77-398C088099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Flow of Academic Pet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98C2-9C51-44ED-965C-59AA47349D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249F-078F-4ADD-A3F3-9DF0847B5B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C5F9D7-D6F3-4CC1-97C0-946C7A6233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Process 6"/>
          <p:cNvSpPr/>
          <p:nvPr/>
        </p:nvSpPr>
        <p:spPr>
          <a:xfrm>
            <a:off x="3124080" y="24382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Initi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Process 8"/>
          <p:cNvSpPr/>
          <p:nvPr/>
        </p:nvSpPr>
        <p:spPr>
          <a:xfrm>
            <a:off x="3124080" y="3276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’s Graduate Coordinator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lowchart: Process 9"/>
          <p:cNvSpPr/>
          <p:nvPr/>
        </p:nvSpPr>
        <p:spPr>
          <a:xfrm>
            <a:off x="3124080" y="480060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an of Graduate Studies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Final 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Process 10"/>
          <p:cNvSpPr/>
          <p:nvPr/>
        </p:nvSpPr>
        <p:spPr>
          <a:xfrm>
            <a:off x="3124080" y="4038480"/>
            <a:ext cx="2590920" cy="5335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partment Chairman (</a:t>
            </a: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Approv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owchart: Process 11"/>
          <p:cNvSpPr/>
          <p:nvPr/>
        </p:nvSpPr>
        <p:spPr>
          <a:xfrm>
            <a:off x="3124080" y="5562720"/>
            <a:ext cx="2590920" cy="53316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gistrar (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Proper Ac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3"/>
          <p:cNvCxnSpPr/>
          <p:nvPr/>
        </p:nvCxnSpPr>
        <p:spPr>
          <a:xfrm flipH="1">
            <a:off x="4419360" y="2971440"/>
            <a:ext cx="2160" cy="30564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5" name="Straight Arrow Connector 15"/>
          <p:cNvCxnSpPr/>
          <p:nvPr/>
        </p:nvCxnSpPr>
        <p:spPr>
          <a:xfrm flipH="1">
            <a:off x="4419360" y="380952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6" name="Straight Arrow Connector 16"/>
          <p:cNvCxnSpPr/>
          <p:nvPr/>
        </p:nvCxnSpPr>
        <p:spPr>
          <a:xfrm flipH="1">
            <a:off x="4419360" y="457164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  <p:cxnSp>
        <p:nvCxnSpPr>
          <p:cNvPr id="97" name="Straight Arrow Connector 17"/>
          <p:cNvCxnSpPr/>
          <p:nvPr/>
        </p:nvCxnSpPr>
        <p:spPr>
          <a:xfrm flipH="1">
            <a:off x="4419360" y="5333760"/>
            <a:ext cx="2160" cy="229320"/>
          </a:xfrm>
          <a:prstGeom prst="straightConnector1">
            <a:avLst/>
          </a:prstGeom>
          <a:ln w="9360">
            <a:solidFill>
              <a:srgbClr val="325b8c"/>
            </a:solidFill>
            <a:miter/>
            <a:tailEnd len="med" type="arrow" w="med"/>
          </a:ln>
        </p:spPr>
      </p:cxnSp>
    </p:spTree>
  </p:cSld>
  <p:transition>
    <p:strips dir="ru"/>
    <p:sndAc>
      <p:stSnd>
        <p:snd r:embed="rId2" name="click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Provisional &amp; Regular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85800" y="23623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admitted with academic deficiencies is referred to a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VISIONAL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academic deficiencies could b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, GMAT, TOEFL, Deficiency Courses, GPA in first 6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fulfill these deficiencies within the first semester of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changed into Regular within first semester, students will be held from registration in the Early Registration and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0158-4FB7-4B9B-8745-1AF16AC75B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DA51-1155-41D1-905B-D8580BAC43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BB307E-7D41-461A-9FAE-D0130F6111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Removal of Provisional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EF79-F2C8-4A02-BAB0-A90A260C315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62B7-86A9-47DF-8BF6-C01F6509E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194F3C-06DF-47C9-A0AA-3377123171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685800" y="26668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use the academic petition form when they have fulfilled the academic deficien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ch a petition is approved, the student will becom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regular 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Hold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60948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 prepared twice every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names of students who are still on Provis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students should arrange to remove the names from the list by changing into Reg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failing to do so will be put on registration hold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not be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gister for the forthcoming seme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37A6-86D9-4E42-B74B-AD4520040AA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5968-11F2-47A3-A27D-68C0F8C90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BFBAEC-C540-48B1-83DB-923BD74F5C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Pre-Graduate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609480" y="24382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special program for students with weak achievements in their BS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y showed good work experience and high motivation to continue their MS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y be granted admission as Pre-Graduate until they pass 3 graduate courses, two of which are core courses with a grade of B and above in each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strictly monitored and revised at the end of each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DD5-F9B8-4704-B039-44E204DBB3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0B9-1376-4FC1-AD89-4C8A6A13D2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B4B420-E29B-4824-AD98-1434E992EC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Degree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685800" y="254952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available on DGS website in excel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admap for earning a deg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what a student has achieved and what is still needed for completing the degre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a student from taking unnecessary courses that may not be approved, which could waste his time and delay his graduation 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should submit their Degree Plans in the second semester of admission at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4D4C-3FE9-4955-8CB9-0E462815BCF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F7DA-FA00-4176-8AA1-AC3ABA85F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3E6823-8149-46B5-A0A9-3D69F4FC21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Change of Degree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90720" y="2666880"/>
            <a:ext cx="7086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D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d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o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study at KFU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pplies for changing major – only o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144-2BA5-4489-A663-F9FB53F9EB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835B-8688-44B8-810B-F12C99C0D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43ECE0-593A-40EA-85B5-FADD11E0C2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Overview at KFU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838080" y="2286000"/>
            <a:ext cx="73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7 colleges and 17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state-of-the-art IT center, Library,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ly, KFUPM ranked the 1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rab World and the 266</a:t>
            </a:r>
            <a:r>
              <a:rPr b="0" lang="sv-S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ver universities in the world (TimesQ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s support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ship of Scientific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stit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enters of Research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CST funds for faculty and graduat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E319-DF12-4EBA-ABB6-707A53F90A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DD72-369E-40D7-8CAD-9D41ADB287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E7AFED-9B1F-426A-8810-3706A6222E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GPA &amp; Warning Polic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990720" y="220968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raduate stude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s to maint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inimum GPA of 3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with GPA less than 3.00 will be placed on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ademic prob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y should eventually raise their G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status is reviewed every semester and will be issued Warning or Sever Warning let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raise the GPA above 3.00 will result i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mis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students such as RAs and LBs are given a single chance and then dismissal will be is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0D57-5417-4FF9-B65D-484AE57A56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8271-18E2-4E2D-A25D-69BE94781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177360-7D71-4A04-ABF5-44BCA7CF29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Starting your Thesis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09480" y="240516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deciding on your thesis supervisor and initial topic as early as possible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ay it until you finish your coursewor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ight want to select some of your course projects as introduction to your thes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y, you will be ready to submit the proposal by the time you end the cours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CB60-49B9-43C9-A07C-8F206C4FBA8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976-5527-46BB-B934-A07D102939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B5E4BE-C1BB-4714-8A83-8DA21500F8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hesis/Dissertation Proposal &amp; Committee Appoin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8580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is/Dissertation is required from all M.Sc and PhD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 from students of other degrees such as M.Engg, M.C.R.P., M.B.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and Committee should be approved by Department and College Council and by Deanship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required forms available on DGS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refer to the chapter on Thesis in the Graduate Bulle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DB6C-F069-4659-8B7B-3932AE41D2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4088-9FF1-41A2-A8F3-A969B25E8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A6F585-3465-447E-BE51-CB4716AD04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Public Oral Defense of Thesis/Disser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685800" y="24382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ublic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is 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ll M.Sc and PhD students as a part of their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al defense form has to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before the intended date of def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gap between the proposal approval date and oral defense reques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s 3 month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defen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not allow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registration periods, final examinations and summer seme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BA3C-7BA1-42D9-8851-890A2F296B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BAC2-6BF2-48BA-8398-262D90190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CC6B9F-D7F0-4CEE-A0B8-A927700E87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Readmiss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685800" y="1905120"/>
            <a:ext cx="7772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form on the website of Graduate Stud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following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act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en for one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rop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rses in a sem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-time graduate students, RAs, Lecturers-B are NOT allowed to drop a semester or withdraw from ALL cou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udent can get re-admission for 3 times at ma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rm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ould be submit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4 weeks before the start of the intended semester to the depart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udents inactive for more than 6 semesters, their cases have to be approved by Dept., College and Graduate Council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2293-333D-4421-94AF-4F5985C45E6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79A2-EFA8-4A9B-9A6D-F76C4F80A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54FF36-8316-4614-B10C-D51411EB47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093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Arial"/>
              </a:rPr>
              <a:t>Important Not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Please read the Graduate Bulletin carefu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7C2C-2F3E-4995-8B2B-3F7C8590BD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64D1-68DC-4EDB-B0F7-2F717AB8D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CF70EF-4643-4F90-B6BE-F7EA231E41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pperplate Gothic Bold"/>
              </a:rPr>
              <a:t>Important Deadli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D6E-9B3D-4DCA-9F36-2788ADC99A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8BE-5327-485F-9DAE-B6912CB3C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B1E7E1-CC48-4341-8658-6152A31F38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1905120"/>
          <a:ext cx="6096240" cy="4581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cademic 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ead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admission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anging Degree Objective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month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gree Plan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d of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Semester from initial ad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hesis Proposal Sub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month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ral defense Request 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intended defens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of def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of 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ast day for clearing pending issues to avoid 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 weeks before new semester st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strips dir="ru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CEE-B155-4C0B-870E-ABAC49C430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AE66-E1BC-46A3-BA68-2A23CE6C3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0EBD31-99EB-4616-93C9-FB52CC1DE6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51928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8386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335268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436896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54100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143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PT MSc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8E25-36A3-4965-AEEE-DE89F61F54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A81D-20CF-4020-9681-B1FFDB06B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C46116-ED1A-4055-86E1-8504C9B511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190980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228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27432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4343400"/>
            <a:ext cx="4267440" cy="10119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thesis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5353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5463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lect thesis advisor and preliminary thesis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586728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 Typical Degree Time Table for FT Ph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7BF5-99B5-4143-8A74-3FE6B0F204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61F8-C472-4E7E-9DAD-7D86029C1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9FD164-388C-4BBE-8D27-48E7142380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1676520"/>
            <a:ext cx="1295280" cy="2746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0001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st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5146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n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ubmit degre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1480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ss Comprehensive Ex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915080"/>
            <a:ext cx="4267440" cy="7304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&amp; defend dissertation 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565776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and 7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ork 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sertation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3317760"/>
            <a:ext cx="4267440" cy="7686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rd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Register 2-3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dissertation topic and su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6172200"/>
            <a:ext cx="4267440" cy="4870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Sem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sis defense and degree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History of Deanship of Graduate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838080" y="25336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nded in 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rly called College of Graduate Studies (C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called Deanship of Graduate Studies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Graduate College in Gulf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– the </a:t>
            </a:r>
            <a:r>
              <a:rPr b="1" lang="sv-SE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rst university in Saudi Arabia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troduce PhD Programs in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FUPM has 10 PhD and 33 MS programs in 23 de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30D6-95B7-4FB1-B932-F08298A295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0C9-0044-46D4-A509-02B66837D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340D9D-6866-4165-BF98-362805D84A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Content Placeholder 5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267C-4E11-49F0-918C-98AE92839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4698F0-6411-4425-9699-7A128DC4A3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764A-BFFD-4351-84F4-F916D6F523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Common Mist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609480" y="24382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ng not in touch with the Department and D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getting to do the registration confirmation at the beginning of every semester (</a:t>
            </a:r>
            <a:r>
              <a:rPr b="0" i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tailed explanation by the 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ping ALL courses and NOT applying for re-admission for next seme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on provisional status do not read the conditions mentioned in their admission letter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checking the university student email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g????????@kfupm.edu.s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regul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2EE7-5683-4C2A-9193-7FBA88914B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7F58-59CA-4F51-BA53-57C4A66F6B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723C29-0BD5-4C14-91DE-46AF334C90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071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pperplate Gothic Bold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653-C561-4574-90DF-CDA7A362A6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ate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0163-BEB5-43EE-90D2-D62E9BE70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FCF3D5-3168-41E6-AC42-BFCAE8B409E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2666880" y="39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click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Chart 7" descr=""/>
          <p:cNvPicPr/>
          <p:nvPr/>
        </p:nvPicPr>
        <p:blipFill>
          <a:blip r:embed="rId2"/>
          <a:stretch/>
        </p:blipFill>
        <p:spPr>
          <a:xfrm>
            <a:off x="378000" y="1517760"/>
            <a:ext cx="8619840" cy="51148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0" name="Chart 2" descr=""/>
          <p:cNvPicPr/>
          <p:nvPr/>
        </p:nvPicPr>
        <p:blipFill>
          <a:blip r:embed="rId2"/>
          <a:stretch/>
        </p:blipFill>
        <p:spPr>
          <a:xfrm>
            <a:off x="-12600" y="981000"/>
            <a:ext cx="9169200" cy="58896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4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4" descr=""/>
          <p:cNvPicPr/>
          <p:nvPr/>
        </p:nvPicPr>
        <p:blipFill>
          <a:blip r:embed="rId2"/>
          <a:stretch/>
        </p:blipFill>
        <p:spPr>
          <a:xfrm>
            <a:off x="146160" y="1596960"/>
            <a:ext cx="8851680" cy="51148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Chart 3" descr=""/>
          <p:cNvPicPr/>
          <p:nvPr/>
        </p:nvPicPr>
        <p:blipFill>
          <a:blip r:embed="rId2"/>
          <a:stretch/>
        </p:blipFill>
        <p:spPr>
          <a:xfrm>
            <a:off x="-6480" y="987480"/>
            <a:ext cx="9156960" cy="526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a2c7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969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pperplate Gothic Bold"/>
                <a:ea typeface="Arial"/>
              </a:rPr>
              <a:t>Strategic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nable KFUPM be a leader in the region in providing quality graduate programs in Science, Engineering and Manag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  <a:ea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provide quality graduate programs according to the best international practices that will enhance the research environment at KFUPM and contribute to the dissemination of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3:53:25Z</dcterms:created>
  <dc:creator>Salam Zummo</dc:creator>
  <dc:description/>
  <dc:language>en-US</dc:language>
  <cp:lastModifiedBy>Salam Zummo</cp:lastModifiedBy>
  <dcterms:modified xsi:type="dcterms:W3CDTF">2009-10-13T14:47:44Z</dcterms:modified>
  <cp:revision>6</cp:revision>
  <dc:subject/>
  <dc:title>Welcome to KFUPM</dc:title>
</cp:coreProperties>
</file>