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DDA7-2209-409E-AD46-B48312FCB6B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2373-40EE-4844-87DD-25EADEB42D3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719D-CDB5-4BA4-8F20-5A86A3B6948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686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686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9"/>
          <p:cNvSpPr/>
          <p:nvPr/>
        </p:nvSpPr>
        <p:spPr>
          <a:xfrm>
            <a:off x="685800" y="1371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8153280" y="30492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685800" y="1371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0"/>
          <p:cNvSpPr/>
          <p:nvPr/>
        </p:nvSpPr>
        <p:spPr>
          <a:xfrm>
            <a:off x="687240" y="13842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457200" y="1371600"/>
            <a:ext cx="80024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ccffff"/>
                </a:solidFill>
                <a:latin typeface="Verdana"/>
              </a:rPr>
              <a:t>GOOD PRACTICES in TEACHING</a:t>
            </a:r>
            <a:br>
              <a:rPr sz="3200"/>
            </a:br>
            <a:br>
              <a:rPr sz="3600"/>
            </a:br>
            <a:r>
              <a:rPr b="1" i="1" lang="en-US" sz="3600" spc="-1" strike="noStrike">
                <a:solidFill>
                  <a:srgbClr val="ccffff"/>
                </a:solidFill>
                <a:latin typeface="Verdana"/>
              </a:rPr>
              <a:t> S.A.M. Said </a:t>
            </a:r>
            <a:br>
              <a:rPr sz="3600"/>
            </a:b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King Fahd Univ. of Petroleum &amp; Minerals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137304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Verdana"/>
              </a:rPr>
              <a:t>Sept. 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4" descr=""/>
          <p:cNvPicPr/>
          <p:nvPr/>
        </p:nvPicPr>
        <p:blipFill>
          <a:blip r:embed="rId1"/>
          <a:stretch/>
        </p:blipFill>
        <p:spPr>
          <a:xfrm>
            <a:off x="3735360" y="51814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Principle 1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ff"/>
                </a:solidFill>
                <a:latin typeface="Verdana"/>
              </a:rPr>
              <a:t>Encourages Student-Faculty Contact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cc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00"/>
                </a:solidFill>
                <a:latin typeface="Verdana"/>
              </a:rPr>
              <a:t>Talk with your students on a personal level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00"/>
                </a:solidFill>
                <a:latin typeface="Verdana"/>
              </a:rPr>
              <a:t>Learn about their educational and career plan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600" spc="-1" strike="noStrike">
                <a:solidFill>
                  <a:srgbClr val="ffffff"/>
                </a:solidFill>
                <a:latin typeface="Verdana"/>
              </a:rPr>
              <a:t>Principle 2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ff"/>
                </a:solidFill>
                <a:latin typeface="Verdana"/>
              </a:rPr>
              <a:t>Encourages</a:t>
            </a: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2400" spc="-1" strike="noStrike">
                <a:solidFill>
                  <a:srgbClr val="ffffff"/>
                </a:solidFill>
                <a:latin typeface="Verdana"/>
              </a:rPr>
              <a:t>Cooperation Among Student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Team effort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than a solo race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Good learning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like good work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is </a:t>
            </a: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collaborative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and social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not competitive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 and isolated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Working with others often: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increases involvement in learning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improves thinking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Deepens understanding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       </a:t>
            </a: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Beginning with the first class have students participate in activities that encourage them to get to know each other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600" spc="-1" strike="noStrike">
                <a:solidFill>
                  <a:srgbClr val="ffffff"/>
                </a:solidFill>
                <a:latin typeface="Verdana"/>
              </a:rPr>
              <a:t>Principle 3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Encourages Active Learning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Students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do not learn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much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by just listening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They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Learn better if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they: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Talk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about their learning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Write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about their learning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Relate </a:t>
            </a:r>
            <a:r>
              <a:rPr b="1" i="1" lang="en-CA" sz="1900" spc="-1" strike="noStrike">
                <a:solidFill>
                  <a:srgbClr val="ffffff"/>
                </a:solidFill>
                <a:latin typeface="Verdana"/>
              </a:rPr>
              <a:t>it to past experiences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 and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Apply 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it to their </a:t>
            </a:r>
            <a:r>
              <a:rPr b="1" i="1" lang="en-CA" sz="1900" spc="-1" strike="noStrike">
                <a:solidFill>
                  <a:srgbClr val="ffffff"/>
                </a:solidFill>
                <a:latin typeface="Verdana"/>
              </a:rPr>
              <a:t>daily lives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They must make what they learn a part of themselves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ccff"/>
                </a:solidFill>
                <a:latin typeface="Verdana"/>
              </a:rPr>
              <a:t>     </a:t>
            </a: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Ask your students to present their work in clas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Principle 4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ff"/>
                </a:solidFill>
                <a:latin typeface="Verdana"/>
              </a:rPr>
              <a:t>Gives Prompt Feedback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Return assignments and tests within a week</a:t>
            </a: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Principle 5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ff"/>
                </a:solidFill>
                <a:latin typeface="Verdana"/>
              </a:rPr>
              <a:t>Emphasizes Time on Task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Time plus energy equals learn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ccff"/>
                </a:solidFill>
                <a:latin typeface="Verdana"/>
              </a:rPr>
              <a:t>     </a:t>
            </a:r>
            <a:r>
              <a:rPr b="1" i="1" lang="en-CA" sz="2400" spc="-1" strike="noStrike">
                <a:solidFill>
                  <a:srgbClr val="ffff00"/>
                </a:solidFill>
                <a:latin typeface="Verdana"/>
              </a:rPr>
              <a:t>Expect your students to complete assignments promptly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Principle 6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ff"/>
                </a:solidFill>
                <a:latin typeface="Verdana"/>
              </a:rPr>
              <a:t>Communicates High Expectation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4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ffff00"/>
                </a:solidFill>
                <a:latin typeface="Verdana"/>
              </a:rPr>
              <a:t>Expect more and you will get it</a:t>
            </a:r>
            <a:r>
              <a:rPr b="0" lang="en-CA" sz="16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Encourage students to excel at the work they</a:t>
            </a: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do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Principle 7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57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ff"/>
                </a:solidFill>
                <a:latin typeface="Verdana"/>
              </a:rPr>
              <a:t>Respects Diverse Talents and Ways of Learn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There are many roads to learning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      </a:t>
            </a:r>
            <a:r>
              <a:rPr b="0" i="1" lang="en-CA" sz="2400" spc="-1" strike="noStrike">
                <a:solidFill>
                  <a:srgbClr val="ffff00"/>
                </a:solidFill>
                <a:latin typeface="Verdana"/>
              </a:rPr>
              <a:t>Encourage students to speak up when they do not understand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Student-Centred Approach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more student-faculty contact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use of active learning strategie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appropriate assessment method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clear expectation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regular formative feedback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more reasonable workload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more independence and choice by the student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a focus on students developing their own understanding of concept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Verdana"/>
              </a:rPr>
              <a:t>It is </a:t>
            </a: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the teacher’s intentions and conception of learning</a:t>
            </a:r>
            <a:r>
              <a:rPr b="0" lang="en-CA" sz="2000" spc="-1" strike="noStrike">
                <a:solidFill>
                  <a:srgbClr val="ffff00"/>
                </a:solidFill>
                <a:latin typeface="Verdana"/>
              </a:rPr>
              <a:t> that is </a:t>
            </a: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critical in the concept of student-centred teaching</a:t>
            </a:r>
            <a:r>
              <a:rPr b="1" i="1" lang="en-CA" sz="1700" spc="-1" strike="noStrike">
                <a:solidFill>
                  <a:srgbClr val="ffff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52280" y="15228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Good Teaching is Ab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04920" y="182880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ivating students to learn, but also teaching them how to learn</a:t>
            </a:r>
            <a:r>
              <a:rPr b="0" i="1" lang="en-US" sz="2000" spc="-1" strike="noStrike">
                <a:solidFill>
                  <a:srgbClr val="66cc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ing your best to</a:t>
            </a: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keep on top of your fiel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istening, questioning, being responsive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nd remembering that each student and class is differ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 always having a fixed agenda and being rigid,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but being flexible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tyle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teacher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work the room and every student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57200" y="51814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52280" y="15228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Good Teaching is Ab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04920" y="1752480"/>
            <a:ext cx="8381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Hum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Caring, nurturing, and developing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ds and talents. It's about devoting time, often invisible, to every stu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rong and visionary leadership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very tangible institutional support -- resources, personnel, and fu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entoring between senior and junior facult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work, and being recognized and promoted by one's pe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ving fun and intrinsic reward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.. Good teacher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couldn't imagine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ing anything el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57200" y="51814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eaching that Enhances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57200" y="152388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The most efficient ways in Learning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Motivate the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Stimulate their curio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Project-orient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Problem bas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Student-center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7200" y="51814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…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and the learning will follow by itsel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Features of Effective Teach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Effective Teaching 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Evidence-Based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nceptually underpinned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Focus on student learning outcomes, especially: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Thinking skills and “deep” learning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Lifelong learning (“learning to learn”)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578880" indent="-5788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Quote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578880" indent="-5788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Learning Principle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578880" indent="-5788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ff"/>
                </a:solidFill>
                <a:latin typeface="Verdana"/>
                <a:ea typeface="굴림"/>
              </a:rPr>
              <a:t>Principles of good practice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578880" indent="-5788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ffective Teach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578880" indent="-5788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oncluding Remark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5788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578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Verdana"/>
            </a:endParaRPr>
          </a:p>
          <a:p>
            <a:pPr marL="57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actors that detract from “deep” learn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Heavy workload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reasonable workloads is a key, even if it means reducing content “coverage”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Exclusive use of lecturing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cut down on lecture time and extend individual study time and time for designated project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Assessment methods used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     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Assessment </a:t>
            </a: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for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 learning and not</a:t>
            </a: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 of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 Learn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My job is to motivate and  provide opportunities! 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not to trip them up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students crave  feedback!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constructive feedback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!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one hour mentoring is worth </a:t>
            </a: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many hours grad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students respect deep  knowledge!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do not read from notes!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 am a storyteller ! 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(entertainer )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not a person that just lists fact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Donot expect students to do more work than yourself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cluding Re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503360"/>
            <a:ext cx="853416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he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emphasis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are</a:t>
            </a:r>
            <a:r>
              <a:rPr b="0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shifting</a:t>
            </a:r>
            <a:r>
              <a:rPr b="0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away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from what is taught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to what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students learn, understand, or discover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Teachers who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think at higher levels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produce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students who are higher achieving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Brilliant teaching reflects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scholarship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personal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integrity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and the ability to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communicate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with the students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cluding Re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The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Seven Principles of Good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Practice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based on research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do enhance learning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if implemented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Effective teaching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must result in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“deep” learning and lifelong learning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Continuous academic development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is a must for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enhancing student learning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cluding Re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 algn="ctr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ff"/>
                </a:solidFill>
                <a:latin typeface="Verdana"/>
                <a:ea typeface="굴림"/>
              </a:rPr>
              <a:t>Thank you</a:t>
            </a:r>
            <a:endParaRPr b="0" lang="en-US" sz="9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Quot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One of the greatest sins in teaching is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to be boring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”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(Baughman, 1979, p. 28)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I'm sure every one of us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can name a teacher that's made a difference in our lives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.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They were the ones that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seemed to understand us the best-or who challenged us the most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”(Stanford, 2000)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never teach my pupils; I only attempt to provide the conditions in which they can learn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” - Albert Einstein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ell me and I forget!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each me and I remember!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Involve me and I learn!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enjamin Franklin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nuary 17, 1706 – April 17, 1790!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ientist, inventor, one of the founding fathers of the United States!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Qu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Class is not a transcription session!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the worst type of class is one where the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information goes from the notes of the teacher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 to the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notes of the students without passing through the minds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 of anyone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Qu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Students Learning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wledge of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basic learning principle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important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5 % of the test questions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require thinking at the lowest possible level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all of information)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loom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Bloom</a:t>
            </a:r>
            <a:r>
              <a:rPr b="0" lang="en-US" sz="2000" spc="-1" strike="noStrike">
                <a:solidFill>
                  <a:srgbClr val="66ccff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dentified</a:t>
            </a:r>
            <a:r>
              <a:rPr b="0" lang="en-US" sz="2000" spc="-1" strike="noStrike">
                <a:solidFill>
                  <a:srgbClr val="66ccff"/>
                </a:solidFill>
                <a:latin typeface="Arial Unicode MS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six levels</a:t>
            </a:r>
            <a:r>
              <a:rPr b="0" lang="en-US" sz="2000" spc="-1" strike="noStrike">
                <a:solidFill>
                  <a:srgbClr val="66ccff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ithin the</a:t>
            </a:r>
            <a:r>
              <a:rPr b="0" lang="en-US" sz="2000" spc="-1" strike="noStrike">
                <a:solidFill>
                  <a:srgbClr val="66ccff"/>
                </a:solidFill>
                <a:latin typeface="Arial Unicode MS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cognitive domain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BLOOM'S TAXONOMY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Knowledg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arrange, define, duplicate, label, list, memorize, name, order, recognize, relate, recall, repeat, reproduce state.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Comprehens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classify, describe, discuss, explain, express, identify, indicate, locate, recognize, report, restate, review, select, translate,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Applic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apply, choose, demonstrate, dramatize, employ, illustrate, interpret, operate, practice, schedule, sketch, solve, use, write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BLOOM'S TAXONOMY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Analysis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alyze, appraise, calculate, categorize, compare, contrast, criticize, differentiate, discriminate, distinguish, examine, experiment, question, test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Synthesi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arrange, assemble, collect, compose, construct, create, design, develop, formulate, manage, organize, plan, prepare, propose, set up, write.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Evalu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appraise, argue, assess, attach, choose compare, defend estimate, judge, predict, rate, core, select, support, value, evaluate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Factors Influence Students’ Learning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ffff"/>
                </a:solidFill>
                <a:latin typeface="Verdana"/>
                <a:ea typeface="굴림"/>
              </a:rPr>
              <a:t>The seven </a:t>
            </a:r>
            <a:r>
              <a:rPr b="0" i="1" lang="en-CA" sz="2800" spc="-1" strike="noStrike">
                <a:solidFill>
                  <a:srgbClr val="ffff00"/>
                </a:solidFill>
                <a:latin typeface="Verdana"/>
                <a:ea typeface="굴림"/>
              </a:rPr>
              <a:t>principles of good practice</a:t>
            </a:r>
            <a:r>
              <a:rPr b="0" i="1" lang="en-CA" sz="2800" spc="-1" strike="noStrike">
                <a:solidFill>
                  <a:srgbClr val="ffffff"/>
                </a:solidFill>
                <a:latin typeface="Verdana"/>
                <a:ea typeface="굴림"/>
              </a:rPr>
              <a:t> in undergraduate education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.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1:30:14Z</dcterms:created>
  <dc:creator>Mazhar</dc:creator>
  <dc:description/>
  <dc:language>en-US</dc:language>
  <cp:lastModifiedBy>Dr. Syed A M Said</cp:lastModifiedBy>
  <cp:lastPrinted>2007-10-04T11:43:09Z</cp:lastPrinted>
  <dcterms:modified xsi:type="dcterms:W3CDTF">2011-09-28T04:45:38Z</dcterms:modified>
  <cp:revision>473</cp:revision>
  <dc:subject/>
  <dc:title>Slide 1</dc:title>
</cp:coreProperties>
</file>