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8705-12A2-4C6F-B05B-62513C018D2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B0DB-CC8B-487A-AF59-1CAE0F2C911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338-F4E7-4AF9-B053-6C386746DE9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AA9E-22A3-4BF0-92DB-36E6A438A5A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4398-C83A-4311-BA58-166BE80199A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54BB-AEC4-4397-B389-236F827410E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E17F-AC0D-447A-9D1C-02CAC92F2E6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B37A-BCC0-4A97-85FA-02B4C492F58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B3C5A-4837-48BA-A609-1FD07B4F7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DCA35-AD40-4FFB-BDC1-80DE0944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F5C09-AA11-436E-94D8-E07C18CB3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3310B-5E78-4A82-AAFD-B96D7CBC0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16098-2DC6-46C3-9C32-3DA68EE57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A6705-5E3A-4D66-A4CA-E15E3FE88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335A9-4B3F-4DB4-A5DD-57E2C2D6B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3404B-E6E4-4F8C-80C9-3B94B2DFF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7F09C-028D-4400-9FE7-5F1D99238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C038A-CAE0-4E7F-AA9C-F865E3E90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3DECF-946E-4D5E-96B5-A6DB8D2BC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839A-84DE-4576-9CED-CB753AE2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D1CBC-9246-452F-A999-60684AEBC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32C1F-CDFC-4995-A1AC-9021FA55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001F-BE8C-43DC-A6FF-4D18D5A08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C9581-53EA-42C5-94DF-30A69760B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15FEB-54D3-46EA-A9AE-24FBA4245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8A61-C33A-4845-A7C3-52626EC0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117F-B56A-4116-8206-55CFD36A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957E-5B89-4A12-A161-23DE40C7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EAC4-8AE3-4785-B67C-BACD5C7A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E4E3-7DE9-4C2B-83B3-55B34C3BE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1E6E-EE72-4DC6-8DAD-33AB9730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D39B-C8C5-4959-8FF5-4FA555A07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B3B9-BD79-46C6-AC1F-56F645FBC69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E11A-BEEF-41BC-9B65-D852DD0D5DC4}"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20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and every student must register either a regular course or thesis every seme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registering will result in “no-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s automatically registered (including thesi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is 9 credit hou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is 12 credit hou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must submit degree plan to the Registrar Office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aldharrab</cp:lastModifiedBy>
  <dcterms:modified xsi:type="dcterms:W3CDTF">2012-09-17T07:50:37Z</dcterms:modified>
  <cp:revision>21</cp:revision>
  <dc:subject/>
  <dc:title>Role of Registrar Office</dc:title>
</cp:coreProperties>
</file>