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4C2-EE63-464D-BC27-ED6BD49458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EAB-3860-4D1F-A8CA-3EA735E3515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8F4E-5DE8-4DE7-AE93-D7F8D3ADC1B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S.A.M. Sai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b. 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Encourages Active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Student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do not learn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much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by just liste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Learn better if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Talk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Write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Relate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it to past experiences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 and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Apply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it to their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daily lives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ey must make what they learn a part of themselv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Ask your students to present their work in clas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Gives Prompt Feedbac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Return assignments and tests within a week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mphasizes Time on Tas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ime plus energy equals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Expect your students to complete assignments promptly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mmunicates High Expectatio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ff00"/>
                </a:solidFill>
                <a:latin typeface="Verdana"/>
              </a:rPr>
              <a:t>Expect more and you will get it</a:t>
            </a:r>
            <a:r>
              <a:rPr b="0" lang="en-CA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Encourage students to excel at the work they</a:t>
            </a: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spects Diverse Talents and Ways of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here are many roads to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i="1" lang="en-CA" sz="2400" spc="-1" strike="noStrike">
                <a:solidFill>
                  <a:srgbClr val="ffff00"/>
                </a:solidFill>
                <a:latin typeface="Verdana"/>
              </a:rPr>
              <a:t>Encourage students to speak up when they do not understan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use of active learning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regular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asonable workload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more independence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288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ivating students to lear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but also teaching them how to learn</a:t>
            </a:r>
            <a:r>
              <a:rPr b="0" i="1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ing your best to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eep on top of your fiel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stening, questioning, being responsiv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 remembering that each student and class is diff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 always having a fixed agenda and being rigid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ut being flexib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ork the room and every student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1752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u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aring, nurturing, and developing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s and talents. It's about devoting time, often invisible, to every stu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rong and visionary leadersh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ery tangible institutional support -- resources, personnel, and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oring between senior and junior facult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work, and being recognized and promoted by one's pe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ving fun and intrinsic reward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 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uldn't imagin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anything el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ffective Teaching 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easonable workloads is a key, even if it means reducing content “coverage”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ut down on lecture time and extend individual study time and time for designated proje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Assessment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for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 and not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of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emphasis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re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hifting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way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from what is taugh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o wha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tudents learn, understand, or discover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eachers wh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rodu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tudents who are higher achiev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rilliant teaching reflect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ersonal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and the ability t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Quot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Learning Principl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Practi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ased on research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f implemente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ffective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must result i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“deep” learning and lifelong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s a must for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nhancing student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e of the greatest sins in teaching i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of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 % of the test questions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equire thinking at the lowest possible lev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of information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d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define, label, list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lassify, describe, discuss, explain, express, identify, indicate, locate, recognize,  review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ly, choose, demonstrate, employ, illustrate, interpret, practic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,  calculate,  compare,  criticize, differentiate,  distinguish, examine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raise, argue, assess, compare,  judge, predict, rat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North American Approach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UK &amp; Australian Approach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Encourages Student-Faculty Contact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Talk with your students on a personal level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Learn about their educational and career pla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ncourages</a:t>
            </a: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eam effort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an a solo race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Good learning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like good work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collaborative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and social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not competitive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and isolated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Working with others often: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ncreases involvement in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mproves think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Deepens understand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Beginning with the first class have students participate in activities that encourage them to get to know each other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ITC-PC</cp:lastModifiedBy>
  <cp:lastPrinted>2007-10-04T11:43:09Z</cp:lastPrinted>
  <dcterms:modified xsi:type="dcterms:W3CDTF">2012-02-08T04:46:38Z</dcterms:modified>
  <cp:revision>473</cp:revision>
  <dc:subject/>
  <dc:title>Slide 1</dc:title>
</cp:coreProperties>
</file>