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244-C35B-4A0E-BE97-CC6CED07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EBC-B335-4856-89CB-33131B8E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AEA-E780-493F-9BEE-0269B0CB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4FB-8448-484D-99F0-A3E118E2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538-5843-473B-875B-5FE918FA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9E2-5BCC-4826-B05C-08FA434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A76-9FB4-4C6C-A840-44A063FC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5B3-6C42-4435-835A-4343E7EA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D88-3563-4DB8-A26F-CF3584C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949-7ECF-4705-96B4-3D13DD4B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C26-0507-4643-9E53-E0ABC0DF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51E-8A20-4F62-A0A6-53A2163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C255-D39E-4E12-B06C-6172CE9FA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SUCCEED IN GRADUATE STUD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hammad Taher Abuelma’a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Fahd University of Petroleum and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ahran, Saudi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 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lit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selectively, broadly and crit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start by classic papers in your area. Ask fo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not make a contribution to the literature unless you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know what is already there and what is mi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w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as been 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your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many of the problems you are fac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ave faced other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dd to your knowledge constantly. Learn what others are do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can give you ideas of new applications for your findings or help you improv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Out of the Bo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Be innovativ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 up with new id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expect anyone to hold your hands at every step – 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use your b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ry to figure out what should be done n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 wants to work with a student who 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just does what he is t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ven if he does it perf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ing Out of the Box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Take initiatives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 above and beyond your assig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ِ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Always ask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: What if? How could this be better? How can I apply this in the futu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Always set a criter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omparison between different methods and approaches for solving a specific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vide-and-Conquer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tting daily, weekly, and monthly go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reaking d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project/large system into smaller pieces is alway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mplement one piece at a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Do not forget interfacing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writing an entire thesis/dissertation,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focus on writing a chapter, section or out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ing the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s are 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the most important 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performance as a researcher/scient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 research with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Esta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track record of productivity by writing papers. It makes life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hole point of being a scientist is, indeed, 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writing papers and giving tal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result in </a:t>
            </a: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feed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is very useful for your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Interesting work + unpublished = nonexist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r Article is Rej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e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o another journal preferably af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ng it based on the reviewers/editor com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ban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only if reviewers/editor raised unsolv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ons to your hypothesis or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ver pro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ditor’s decision. Nothing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If you protest the decision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ver in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rs, accept their valid comments and use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s to support your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Your Vi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al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your research with other researchers, your advisor and other profess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opportunities to give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minars and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fer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ever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Thick Sk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Do not leave your advisor in the d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eep him informed. </a:t>
            </a:r>
            <a:r>
              <a:rPr b="1" lang="en-US" sz="2800" spc="-1" strike="noStrike" u="sng">
                <a:solidFill>
                  <a:srgbClr val="6699ff"/>
                </a:solidFill>
                <a:uFillTx/>
                <a:latin typeface="Arial"/>
              </a:rPr>
              <a:t>Expect and accept critic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him  and from colleag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Do not spend your time compl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out heavy work load, uncaring attitudes of faculty and the constant pressure of being evaluated. You will end up getting a degree without actual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icularly in the middle years,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it can be very hard to maintain positive attitude and stay motivate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normal. Discuss it with your advisor, colleagues o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in graduate studies requi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Years of single-minded ded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uch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initi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sponsible independent stu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99"/>
                </a:solidFill>
                <a:uFillTx/>
                <a:latin typeface="Arial"/>
              </a:rPr>
              <a:t>The path to success will not be without setbacks. Be patient and you will succeed in sha’a ALLA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aduate Stud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studies has become an entry-level requirement for many of the more desirable professio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your reasons to join graduate studies, hon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Graduate studies is about transforming a “student” into a “scientist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uate and Undergradu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from undergraduate to graduate is when you go from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rimarily being a “student” to primarily being a “scientis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r primary responsibility was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to do what your professors told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igh score in G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igh G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undergraduate studies can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 success in graduate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cientist, your primary responsibility is to do good 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n theory, practice and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till have to use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the old techniques: to understand, to memorize and to show up i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But this is not enough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cceed in graduate studies, you have to </a:t>
            </a:r>
            <a:r>
              <a:rPr b="1" lang="en-US" sz="4000" spc="-1" strike="noStrike" u="sng">
                <a:solidFill>
                  <a:srgbClr val="ff3399"/>
                </a:solidFill>
                <a:uFillTx/>
                <a:latin typeface="Arial"/>
              </a:rPr>
              <a:t>learn critical think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tudents struggle in graduate studies, especially in the early years, becaus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y are implicitly waiting to be told what to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6699ff"/>
                </a:solidFill>
                <a:latin typeface="Arial"/>
              </a:rPr>
              <a:t>Do not wait-try to figure out what you should do and do i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cientists 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 scientist is a back-and-forth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ne hand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looking at the big picture, learning the basics, thinking deeply, coming up with new ide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ther hand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digging into the details, getting your hands dirty and actually coming up with some tangibl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Science depends on bot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n Ad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ideal advi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rea of your 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Knowledgeable and 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doing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Involved in and resp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Ready to act as your men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or technical inform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He cares, understands and   appreciates your resear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Thesis/Dissertation Top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lect a topic because of it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market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rkets change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lect a topic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 ON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is in the area of your selected advi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ick a narrow well defined topic. You may finish quickly but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your work may not be exc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Thesis/Dissertation Topic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ic that you are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tru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ested in. If you do not enjoy the topic, you may end up unsatisfied in your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l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ic to solve a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real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a toy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opic that may branch out in a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new direction (or directions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be risky, but you may become a world leading authority in this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Wor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Have a clear se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what you want to work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arge p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research is about studying and testing many possibilities and finding out the combinations that wor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Weekdays are not en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ork everyday (and night) if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some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weekends o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Do not forget your famil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06:15:54Z</dcterms:created>
  <dc:creator>mtaher</dc:creator>
  <dc:description/>
  <dc:language>en-US</dc:language>
  <cp:lastModifiedBy>mtaher</cp:lastModifiedBy>
  <dcterms:modified xsi:type="dcterms:W3CDTF">2012-02-06T08:10:54Z</dcterms:modified>
  <cp:revision>18</cp:revision>
  <dc:subject/>
  <dc:title>HOW TO BE A GOOD GRADUATE STUDENT</dc:title>
</cp:coreProperties>
</file>