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7F1-70AB-434F-A18B-608F0FA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F66-9410-46F9-A547-B0BEF832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D98-349B-43C4-ACCE-53DD560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F2E-1E93-4ACC-B778-83CB7239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225-1981-41C7-8FC3-80FD428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EC0-B0B3-4539-994D-D1650E0B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E8E-16C7-4774-9367-9478E3EE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D9F-3E18-4973-9D86-A35FA4C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575-D7E0-496F-9C23-277D37D0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37B-9145-4A97-8AC7-0034339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C76-A582-4754-8E31-B07756C4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E6F-1B6B-423F-BC12-24DD3D8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AA4C-5C23-499C-AAFE-1CBA74C3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UCCEED IN GRADUATE STUD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Taher Abuelma’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Fahd University of Petroleum and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ahran, Saudi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 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selectively, broadly and cri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start by classic papers in your area. Ask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not make a contribution to the literature unless you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know what is already there and what is mi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w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as been 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many of the problems you are fac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ave faced other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dd to your knowledge constantly. Learn what others are do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can give you ideas of new applications for your findings or help you improv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Out of the Bo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Be innovativ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 up with new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expect anyone to hold your hands at every step – 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use your b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ry to figure out what should be done n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 wants to work with a student who 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just does what he is t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ven if he does it perf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ing Out of the Box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Take initiatives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 above and beyond your assig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ِ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Always ask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: What if? How could this be better? How can I apply this in the futu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Always set a criter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omparison between different methods and approaches for solving a specific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vide-and-Conquer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tting daily, weekly, and monthly go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reaking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project/large system into smaller pieces is alway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mplement one piece at a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o not forget interfacing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writing an entire thesis/dissertation,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focus on writing a chapter, section or out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ing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 are 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the most important 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performance as a researcher/scient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 research with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Esta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track record of productivity by writing papers. It makes life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ole point of being a scientist is, indeed, 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writing papers and giving tal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result in 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feed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very useful for your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nteresting work + unpublished = nonexis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r Article is Rej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e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o another journal preferably af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ng it based on the reviewers/editor com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ban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only if reviewers/editor raised unsolv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ons to your hypothesis or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ver pro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ditor’s decision. Nothing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f you protest the decision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ver in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, accept their valid comments and use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s to support your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Your Vi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your research with other researchers, your advisor and other profess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opportunities to give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minars and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fer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ever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Thick 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Do not leave your advisor in the d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eep him informed. </a:t>
            </a:r>
            <a:r>
              <a:rPr b="1" lang="en-US" sz="2800" spc="-1" strike="noStrike" u="sng">
                <a:solidFill>
                  <a:srgbClr val="6699ff"/>
                </a:solidFill>
                <a:uFillTx/>
                <a:latin typeface="Arial"/>
              </a:rPr>
              <a:t>Expect and accept critic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him  and from colleag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Do not spend your time compl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heavy work load, uncaring attitudes of faculty and the constant pressure of being evaluated. You will end up getting a degree without actual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icularly in the middle years,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it can be very hard to maintain positive attitude and stay motiva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normal. Discuss it with your advisor, colleagues o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in graduate studies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ears of single-minded ded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uch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initi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sponsible independent stu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The path to success will not be without setbacks. Be patient and you will succeed in sha’a ALLA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duate Stud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studies has become an entry-level requirement for many of the more desirable professio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your reasons to join graduate studies, hon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Graduate studies is about transforming a “student” into a “scientist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e and Undergradu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from undergraduate to graduate is when you go from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rimarily being a “student” to primarily being a “scientis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primary responsibility was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o do what your professors told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igh score in G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igh G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undergraduate studies can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 success in graduate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cientist, your primary responsibility is to do good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n theory, practice and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till have to use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he old techniques: to understand, to memorize and to show up i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But this is not enough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cceed in graduate studies, you have to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Arial"/>
              </a:rPr>
              <a:t>learn critical thin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tudents struggle in graduate studies, especially in the early years, becaus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y are implicitly waiting to be told what 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Do not wait-try to figure out what you should do and do i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cientists 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 scientist is a back-and-forth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ne hand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ooking at the big picture, learning the basics, thinking deeply, coming up with new ide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igging into the details, getting your hands dirty and actually coming up with some tangibl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Science depends on bot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n Ad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ideal advi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rea of your 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Knowledgeable and 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doing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nvolved in and res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Ready to act as your men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or technical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He cares, understands and   appreciates you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Thesis/Dissertation Top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lect a topic because of it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marke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s change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lect a topic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 ON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is in the area of your selected advi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ck a narrow well defined topic. You may finish quickly but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your work may not be exc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Thesis/Dissertation Topic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ic that you are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tru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ested in. If you do not enjoy the topic, you may end up unsatisfied in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ic to solve a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real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a toy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opic that may branch out in a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new direction (or direction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risky, but you may become a world leading authority in this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Wor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ave a clear s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what you want to work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arge 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research is about studying and testing many possibilities and finding out the combinations that 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Weekdays are not en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ork everyday (and night)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ome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weekends 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Do not forget your famil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6:15:54Z</dcterms:created>
  <dc:creator>mtaher</dc:creator>
  <dc:description/>
  <dc:language>en-US</dc:language>
  <cp:lastModifiedBy>mtaher</cp:lastModifiedBy>
  <dcterms:modified xsi:type="dcterms:W3CDTF">2012-02-06T08:10:54Z</dcterms:modified>
  <cp:revision>18</cp:revision>
  <dc:subject/>
  <dc:title>HOW TO BE A GOOD GRADUATE STUDENT</dc:title>
</cp:coreProperties>
</file>